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3"/>
          </p:nvPr>
        </p:nvSpPr>
        <p:spPr>
          <a:xfrm>
            <a:off x="3854160" y="0"/>
            <a:ext cx="29509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Img"/>
          </p:nvPr>
        </p:nvSpPr>
        <p:spPr>
          <a:xfrm>
            <a:off x="1174320" y="1238400"/>
            <a:ext cx="4457880" cy="33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ftr" idx="14"/>
          </p:nvPr>
        </p:nvSpPr>
        <p:spPr>
          <a:xfrm>
            <a:off x="0" y="941076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 type="sldNum" idx="15"/>
          </p:nvPr>
        </p:nvSpPr>
        <p:spPr>
          <a:xfrm>
            <a:off x="385416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7722-7463-4C7C-888A-354583DF968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A416-5266-4B26-A33E-D0A5E6C6AA5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63D2-8703-4A94-A972-CD077481BE4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B06E-211E-491F-8FE0-BE4137A438F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C6FC-4DD2-4204-9D3E-5B23B31DD23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38F0-5619-4092-A4D7-7D5C4770B41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19DB-44A6-4260-B41B-F08A798BF56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D6A5-1A15-49A6-933B-2A90C169396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733A-866B-4883-AD8E-055C745F208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C7F0-FC25-4936-8020-9D6E4B6D703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2B2D-EB7F-420D-B2D5-9CB6890178A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68A7-918B-4986-BFDE-BC9B136A6A3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EEBD-D9B5-42A4-8205-E46D261664F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6C56-908A-47B1-AD31-74B127A7684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2A68-6CE8-419C-9D5B-A5CF3C4D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C498-388F-4171-A1F9-4D8F7FAC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7AF0-DCBF-4D5E-90B9-8930E689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3E89-C999-4C69-BBA0-F72774F4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550E-026D-4428-B5F9-8CEC1706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93FA-5897-495A-83D0-D8078D9D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13DE-2D39-4BD1-BEBB-54090006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08E2-4406-4056-8B1E-B35751B6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7A85-E57B-4F73-A7F9-97679433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D83A-04DA-483E-B664-94C3CF94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641A-A385-40D9-ADFB-86E1EA65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7BA3-9078-4177-A4C6-FFF03993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4D065-1536-462A-91D2-1303EDC2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C353A-2895-4AEF-BECE-A24DC8D0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B4680-A914-456B-AE09-19C4FB3C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1D277-9E50-4B29-91C5-0194F5F9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3E9B7-362B-4147-B5E4-4962DAA6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BF581-4D0B-4C76-BE3A-F8121EEE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77826-4E7A-493E-A19D-6729241A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0D0E2-FA26-4151-96A0-D4A4A93B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CA2FB-DDF6-45C4-A559-6DDC331D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D7069-DABF-420A-825B-A5964FDE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3E872-044D-43DA-86F6-6518E796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8EC7C-03D2-4236-8ADF-3AD2B7DC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C1520-1AA2-4FB7-AC43-48F5C6C3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448F2-3C4A-4898-B5B3-75A57F8C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90F7C-181E-4AC3-B3C6-B25D1862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57BE5-6B75-4839-919A-BB977C77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9C0E0-AA32-4BE5-BB18-FAA4CACE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262A0-2739-4172-B4C1-541A8FF5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BEF4F-9A98-4DB6-8A8A-115D20C9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4F4CA-6878-40AC-916F-EFEC43BF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5E29E-7431-497F-8AFC-AF1F9C7D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BB0EB-2240-43A7-BEB3-BFA78DB3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54DBC-B3B6-4D5E-B549-E1B1FAF1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456F7-5153-408C-BAAC-93DF03D5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0" y="6504120"/>
            <a:ext cx="6157800" cy="361800"/>
          </a:xfrm>
          <a:prstGeom prst="rect">
            <a:avLst/>
          </a:prstGeom>
          <a:solidFill>
            <a:srgbClr val="84c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457200" y="6504120"/>
            <a:ext cx="8686800" cy="361800"/>
          </a:xfrm>
          <a:prstGeom prst="rect">
            <a:avLst/>
          </a:prstGeom>
          <a:solidFill>
            <a:srgbClr val="c7e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Obraz 3" descr=""/>
          <p:cNvPicPr/>
          <p:nvPr/>
        </p:nvPicPr>
        <p:blipFill>
          <a:blip r:embed="rId2"/>
          <a:stretch/>
        </p:blipFill>
        <p:spPr>
          <a:xfrm>
            <a:off x="6033960" y="6103800"/>
            <a:ext cx="2820960" cy="925560"/>
          </a:xfrm>
          <a:prstGeom prst="rect">
            <a:avLst/>
          </a:prstGeom>
          <a:ln w="0">
            <a:noFill/>
          </a:ln>
        </p:spPr>
      </p:pic>
      <p:pic>
        <p:nvPicPr>
          <p:cNvPr id="5" name="Obraz 9" descr=""/>
          <p:cNvPicPr/>
          <p:nvPr/>
        </p:nvPicPr>
        <p:blipFill>
          <a:blip r:embed="rId3"/>
          <a:stretch/>
        </p:blipFill>
        <p:spPr>
          <a:xfrm>
            <a:off x="324000" y="33480"/>
            <a:ext cx="1800000" cy="793440"/>
          </a:xfrm>
          <a:prstGeom prst="rect">
            <a:avLst/>
          </a:prstGeom>
          <a:ln w="0">
            <a:noFill/>
          </a:ln>
        </p:spPr>
      </p:pic>
      <p:pic>
        <p:nvPicPr>
          <p:cNvPr id="6" name="Obraz 10" descr=""/>
          <p:cNvPicPr/>
          <p:nvPr/>
        </p:nvPicPr>
        <p:blipFill>
          <a:blip r:embed="rId4"/>
          <a:stretch/>
        </p:blipFill>
        <p:spPr>
          <a:xfrm>
            <a:off x="6910560" y="189000"/>
            <a:ext cx="1944360" cy="57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4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8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133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134" name="Prostokąt 8"/>
          <p:cNvSpPr/>
          <p:nvPr/>
        </p:nvSpPr>
        <p:spPr>
          <a:xfrm>
            <a:off x="0" y="500040"/>
            <a:ext cx="928800" cy="1071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FB62-DA11-4ED6-B6CA-A681BC1CEE35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17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77E3-14CC-417E-A6EA-3DFB85C4CE95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224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1107-058C-44DE-ADA0-41917C890349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rostokąt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H:\Grupy\DL\FOTOLIA\Fotolia_65208503_M.jpg"/>
          <p:cNvPicPr/>
          <p:nvPr/>
        </p:nvPicPr>
        <p:blipFill>
          <a:blip r:embed="rId1"/>
          <a:srcRect l="0" t="0" r="3757" b="0"/>
          <a:stretch/>
        </p:blipFill>
        <p:spPr>
          <a:xfrm>
            <a:off x="0" y="-17136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275" name="Prostokąt 30"/>
          <p:cNvSpPr/>
          <p:nvPr/>
        </p:nvSpPr>
        <p:spPr>
          <a:xfrm>
            <a:off x="0" y="1662120"/>
            <a:ext cx="9144000" cy="1285920"/>
          </a:xfrm>
          <a:prstGeom prst="rect">
            <a:avLst/>
          </a:prstGeom>
          <a:solidFill>
            <a:srgbClr val="bfbfb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31"/>
          <p:cNvSpPr/>
          <p:nvPr/>
        </p:nvSpPr>
        <p:spPr>
          <a:xfrm>
            <a:off x="395280" y="1662120"/>
            <a:ext cx="86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odowy Fundusz Ochrony Środowiska i Gospodarki Wod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ole tekstowe 32"/>
          <p:cNvSpPr/>
          <p:nvPr/>
        </p:nvSpPr>
        <p:spPr>
          <a:xfrm>
            <a:off x="468360" y="2090880"/>
            <a:ext cx="83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ęść 1) Sokół – wdrożenie innowacyjnych technologii środowiskow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Obraz 11" descr=""/>
          <p:cNvPicPr/>
          <p:nvPr/>
        </p:nvPicPr>
        <p:blipFill>
          <a:blip r:embed="rId2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279" name="pole tekstowe 9"/>
          <p:cNvSpPr/>
          <p:nvPr/>
        </p:nvSpPr>
        <p:spPr>
          <a:xfrm>
            <a:off x="870120" y="52912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nna Kołodzi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epartament Innowacji i Ekspert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rostokąt 13"/>
          <p:cNvSpPr/>
          <p:nvPr/>
        </p:nvSpPr>
        <p:spPr>
          <a:xfrm>
            <a:off x="-44280" y="3506760"/>
            <a:ext cx="9144000" cy="1285920"/>
          </a:xfrm>
          <a:prstGeom prst="rect">
            <a:avLst/>
          </a:prstGeom>
          <a:solidFill>
            <a:srgbClr val="bfbfb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ole tekstowe 3"/>
          <p:cNvSpPr/>
          <p:nvPr/>
        </p:nvSpPr>
        <p:spPr>
          <a:xfrm>
            <a:off x="1886040" y="3716280"/>
            <a:ext cx="70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ca01a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Kryteria oceny projektów dla fazy B+R i fazy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ca01a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Składanie wniosku w GWD dla fazy B+R i fazy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200" spc="-1" strike="noStrike">
                <a:solidFill>
                  <a:srgbClr val="008000"/>
                </a:solidFill>
                <a:latin typeface="Calibri"/>
              </a:rPr>
              <a:t>Efekt ekologiczny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Elipsa 10"/>
          <p:cNvSpPr/>
          <p:nvPr/>
        </p:nvSpPr>
        <p:spPr>
          <a:xfrm>
            <a:off x="108000" y="162864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prowadzić będzie do znacznego zmniejszenia oddziaływania na środowisk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rostokąt 2"/>
          <p:cNvSpPr/>
          <p:nvPr/>
        </p:nvSpPr>
        <p:spPr>
          <a:xfrm>
            <a:off x="2654280" y="1197000"/>
            <a:ext cx="6489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 znaczne zmniejszenie oddziaływania na środowisko rozumie się zmianę (zmniejszenie/ zwiększenie) w wysokości nie mniejszej niż 10% w stosunku do stanu sprzed realizacji projektu. Projekt wpisuje się w jeden z obszarów wymienionych poniże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gwarantujących oszczędność surowcową, w tym oszczędność wod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technologii mało- i bezodpadowych, w tym zmniejszenie ilości ściekó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gwarantujących zmniejszenie ilości zanieczyszczeń odprowadzanych do atmosfer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gwarantujących zmniejszenie poziomu hałas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wydłużających cykl życia produkt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zmniejszających zużycie energ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ole tekstowe 3"/>
          <p:cNvSpPr/>
          <p:nvPr/>
        </p:nvSpPr>
        <p:spPr>
          <a:xfrm>
            <a:off x="14400" y="4713120"/>
            <a:ext cx="91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fazie B+R nie wprowadzamy konieczności uzyskania efektu ekologicznego do umowy o dofinansowanie, określamy natomiast obszar w którym spodziewamy największego efektu, będącego jednocześnie największą przewagą konkurencyjną, uprawdopodabniamy możliwość jego osiągnięcia w porównaniu do szeroko stosowanych rozwiązań oraz sparametryzowaną metodologię jego obliczenia. Doprecyzowanie i ewentualnej parametryzacji efektu oczekuje się na końcowym etapie realizacji przedsięwzięcia w ramach fazy B+R, np. w Raporcie Końcowy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potrzebowanie rynkowe na wyniki bada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soby materialne i kadr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rostokąt 2"/>
          <p:cNvSpPr/>
          <p:nvPr/>
        </p:nvSpPr>
        <p:spPr>
          <a:xfrm>
            <a:off x="2654280" y="1341360"/>
            <a:ext cx="6165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podleg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enie wyboru przyjętego rozwiązania/technologii (w tym wskazanie obecnego stanu technik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ożliwość zastosowania wyników projektu w gospodarce lub ich innego praktycznego wykorzystan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siadanie odpowiednich zasobów materialnych i kadrowych niezbędnych do realizacj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winny zostać wskazane  rozwiązania alternatywne, które rozważano. Rozwiązaniem alternatywnym nie może być wyłącznie wariant „0”, jak również nie powinny to być przestarzałe lub funkcjonujące od lat rozwiązania – dla przedsięwzięcia innowacyjnego należy dokonywać analizy rozwiązań alternatywnych w obszarze nowoczesnych dostępnych rozwiązań w danej dziedzinie. Alternatywne warianty mogą też dotyczyć nie tylko technologii, lecz również np. samego sposobu realizacji przedsięwzięcia, lokalizacji, zidentyfikowanych problemów itp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ole tekstowe 3"/>
          <p:cNvSpPr/>
          <p:nvPr/>
        </p:nvSpPr>
        <p:spPr>
          <a:xfrm>
            <a:off x="250920" y="558972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uzasadnionych przypadkach należy wyczerpująco uzasadnić brak alternatywnych rozwiąza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 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potrzebowanie rynkowe na wyniki bada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soby materialne i kadr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rostokąt 2"/>
          <p:cNvSpPr/>
          <p:nvPr/>
        </p:nvSpPr>
        <p:spPr>
          <a:xfrm>
            <a:off x="2771640" y="1500120"/>
            <a:ext cx="604836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leży opisać aktualny stan nauki i techniki dla dziedziny objętej projektem i wykazać potencjał aplikacyjny w kontekście omówionego aktualnego stanu nauki i techniki, uwiarygodnić  zapotrzebowanie na wyniki projektu dla wybranej grupy docelowej odbiorców i udowodnić przewagę rozwiązania w stosunku do dotychczas stosowanyc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będzie podlegało posiadanie odpowiedniego personelu badawczego, odpowiednich warunków technicznych i infrastruktury badawczej. Wskazane podanie wszelkich istotnych dla realizacji projektu informacji dotyczących kwalifikacji i doświadczenia osób, którymi będzie dysponował wykonaw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nioskodawca powinien posiadać odpowiedni potencjał organizacyjny/doświadczenie dotyczące projektów badawczych, prac rozwojowych, wdrożeń innowacyjnych jak również wyspecjalizowaną komórkę organizacyjn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ole tekstowe 3"/>
          <p:cNvSpPr/>
          <p:nvPr/>
        </p:nvSpPr>
        <p:spPr>
          <a:xfrm>
            <a:off x="250920" y="533880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  <a:ea typeface="Arial"/>
              </a:rPr>
              <a:t>W przypadku zatrudnienia do całości lub części badań podwykonawcy – wszystkie ww. informacje dotyczące posiadanych kwalifikacji i doświadczenia należy podać również odnośnie zasobów podwykonawc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</a:t>
            </a:r>
            <a:br>
              <a:rPr sz="3200"/>
            </a:b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7030a0"/>
                </a:solidFill>
                <a:latin typeface="Calibri"/>
              </a:rPr>
              <a:t>EFEKTY EKONOMICZN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ole tekstowe 1"/>
          <p:cNvSpPr/>
          <p:nvPr/>
        </p:nvSpPr>
        <p:spPr>
          <a:xfrm>
            <a:off x="179280" y="2060640"/>
            <a:ext cx="8569440" cy="39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W ramach tego kryterium ocenie będzie podlegało, czy wnioskodawca przedstawił potencjał rynkowy wyników projektu i przeanalizował go, wykazał korzyści z zastosowania wyników projektu w praktyce gospodarczej, czy oszacowano ekonomiczne efekty projektu, jak również potencjalne efekty  społeczne, środowiskow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Konieczność poniesienia wydatków na realizację projektu w celu osiągnięcia zakładanych rezultatów projektu (rzeczowego i ekologicznego) powinna zostać wystarczająco uzasadniona, a jednocześnie zakres przedsięwzięcia powinien obejmować wszystkie niezbędne elementy i tym samym gwarantować osiągnięcie zakładanych rezultatów projek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br>
              <a:rPr sz="3200"/>
            </a:b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7030a0"/>
                </a:solidFill>
                <a:latin typeface="Calibri"/>
              </a:rPr>
              <a:t>KWALIFIKOWALNOŚĆ I WYSOKOŚĆ WYDATKÓW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ole tekstowe 1"/>
          <p:cNvSpPr/>
          <p:nvPr/>
        </p:nvSpPr>
        <p:spPr>
          <a:xfrm>
            <a:off x="108000" y="1773360"/>
            <a:ext cx="88567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Kwalifikowalność wydatków w fazie B+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rzedsięwzięcia, które obejmują wyłącznie prace badawcze i rozwojowe, o których mowa 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odpowiednio w art. 2 pkt 3, ppkt. c) i pkt. 4 Ustawy z dnia 30 kwietnia 2010 r. o zasadach finansowania nauki. (Dz.U. 2018, poz. 8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Kwalifikowalność kosztów zgodnie z „Wytycznymi NFOŚiGW w zakresie kosztów kwalifikowanych” znajdującymi się pod adres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Arial"/>
              </a:rPr>
              <a:t>http://nfosigw.gov.pl/download/gfx/nfosigw/pl/nfoopisy/352/3/7/wytyczne_w_zakresie_kosztow_kwalifikowanych.pd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z uwzględnieniem zastrzeżeń określonych w Programie Priorytetow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Wydatki uznane za kwalifikowane zostaną również ocenione pod względem ich wysokości – czy są adekwatne do potrzeb projektu, zostały racjonalnie oszacowane i uzasadnione, przedstawiono wiarygodną metodę kalkulacji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br>
              <a:rPr sz="3200"/>
            </a:br>
            <a:r>
              <a:rPr b="1" lang="pl-PL" sz="40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40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7030a0"/>
                </a:solidFill>
                <a:latin typeface="Calibri"/>
              </a:rPr>
              <a:t>KWALIFIKOWALNOŚĆ I WYSOKOŚĆ WYDATKÓW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ole tekstowe 1"/>
          <p:cNvSpPr/>
          <p:nvPr/>
        </p:nvSpPr>
        <p:spPr>
          <a:xfrm>
            <a:off x="324000" y="2060640"/>
            <a:ext cx="8424720" cy="50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Wyłączenia w stosunku do zakresu określonego w „Wytycznych (…)” podane są w pkt. 6 pkt. 2) Programu Priorytetowego, odpowiednio dla wniosków dotyczących fazy B+R i fazy 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1f497d"/>
                </a:solidFill>
                <a:uFillTx/>
                <a:latin typeface="Arial"/>
              </a:rPr>
              <a:t>Dla fazy B+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2) Koszty kwalifikowane - </a:t>
            </a: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zgodnie z „Wytycznymi NFOŚiGW w zakresie kosztów kwalifikowanych”, z zastrzeżeniem, że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w fazie B+R 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koszty w ramach kategorii 3.4.3 „Środki trwałe, sprzęt i wyposażenie, wartości niematerialne i prawne”, przeznaczone na zakup wartości niematerialnych i prawnych w formie licencji oraz nieopatentowanej wiedzy technicznej, technologicznej lub z zakresu organizacji i zarządzania, są kosztem kwalifikowanym nie współfinansowanym ze środków NFOŚiGW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Załączniki </a:t>
            </a:r>
            <a:br>
              <a:rPr sz="4200"/>
            </a:br>
            <a:r>
              <a:rPr b="1" lang="pl-PL" sz="1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1" lang="pl-PL" sz="1400" spc="-1" strike="noStrike">
                <a:solidFill>
                  <a:srgbClr val="002060"/>
                </a:solidFill>
                <a:latin typeface="Calibri"/>
              </a:rPr>
              <a:t>(dot. oceny ekologiczno-technicznej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ole tekstowe 1"/>
          <p:cNvSpPr/>
          <p:nvPr/>
        </p:nvSpPr>
        <p:spPr>
          <a:xfrm>
            <a:off x="250920" y="1765440"/>
            <a:ext cx="82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Obowiązkow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Mapa lokalizacyjna inwesty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Plan prac badawczo-rozwojow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Schemat technologiczny innowacyjnej technologii będącej przedmiotem prac badawczo rozwojow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Nieobowiązkowe - uzupełniają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ublikacje naukow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opinie jednostek naukowo badawcz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wykaz niezbędnego sprzętu wraz z wycen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schemat organizacyjny jednostki badawczo rozwojow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inne istotne dokumenty: zgłoszenie patentowe, licencje, umowy z jednostkami badawczymi, listy intencyjne potwierdzające zapotrzebowanie na wyniki prac badawczo rozwojowych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Wybuch  2 3"/>
          <p:cNvSpPr/>
          <p:nvPr/>
        </p:nvSpPr>
        <p:spPr>
          <a:xfrm>
            <a:off x="3165480" y="2614680"/>
            <a:ext cx="3525840" cy="339732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Faza W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Elipsa 4"/>
          <p:cNvSpPr/>
          <p:nvPr/>
        </p:nvSpPr>
        <p:spPr>
          <a:xfrm>
            <a:off x="3784680" y="366696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faza wdrożeni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lipsa 9"/>
          <p:cNvSpPr/>
          <p:nvPr/>
        </p:nvSpPr>
        <p:spPr>
          <a:xfrm>
            <a:off x="395280" y="442908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zy innowacja j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- na poziomie regionalnym/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krajowym/międzynarodowy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produktowa, procesow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Elipsa 16"/>
          <p:cNvSpPr/>
          <p:nvPr/>
        </p:nvSpPr>
        <p:spPr>
          <a:xfrm>
            <a:off x="3508200" y="1170000"/>
            <a:ext cx="2546640" cy="158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jest zgodne z: KIS 2, KIS 3, KIS 4, KIS 5, KIS 6, KIS 7, KIS 10, KIS 13, KIS 15?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(*) w tym KIS nr 2, 3, 10, 15, 13 – w wybranym zakre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Elipsa 17"/>
          <p:cNvSpPr/>
          <p:nvPr/>
        </p:nvSpPr>
        <p:spPr>
          <a:xfrm>
            <a:off x="6448320" y="2062080"/>
            <a:ext cx="265932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ma sparametryzowany i uprawdopodobniony efekt ekologiczny przynajmniej w jednym wskazanym obszarz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lipsa 18"/>
          <p:cNvSpPr/>
          <p:nvPr/>
        </p:nvSpPr>
        <p:spPr>
          <a:xfrm>
            <a:off x="5889600" y="4281480"/>
            <a:ext cx="3254400" cy="1886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czy uzasadniono wybór    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pozwolenie na budowę, prawo do gruntu, obiekty, kosztorys, harmonogram pr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przygotowanie instytucjonaln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niezbędność i  kwalifikacja      wydatkó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Elipsa 7"/>
          <p:cNvSpPr/>
          <p:nvPr/>
        </p:nvSpPr>
        <p:spPr>
          <a:xfrm>
            <a:off x="749160" y="2459160"/>
            <a:ext cx="2546640" cy="158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Kto posiada prawo do innowacj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licencj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głoszenie patent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mowa, porozumienie, listy intencyj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ole tekstowe 1"/>
          <p:cNvSpPr/>
          <p:nvPr/>
        </p:nvSpPr>
        <p:spPr>
          <a:xfrm rot="732000">
            <a:off x="6460560" y="156168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00"/>
                </a:solidFill>
                <a:latin typeface="Arial"/>
              </a:rPr>
              <a:t>EFEKT EKOLOGICZ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ole tekstowe 2"/>
          <p:cNvSpPr/>
          <p:nvPr/>
        </p:nvSpPr>
        <p:spPr>
          <a:xfrm rot="19480200">
            <a:off x="-32400" y="21729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INNOWACYJ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Łącznik prosty ze strzałką 8"/>
          <p:cNvCxnSpPr/>
          <p:nvPr/>
        </p:nvCxnSpPr>
        <p:spPr>
          <a:xfrm flipH="1">
            <a:off x="2950560" y="4660560"/>
            <a:ext cx="927720" cy="376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0" name="Łącznik prosty ze strzałką 11"/>
          <p:cNvCxnSpPr/>
          <p:nvPr/>
        </p:nvCxnSpPr>
        <p:spPr>
          <a:xfrm flipH="1" flipV="1">
            <a:off x="3203280" y="3598560"/>
            <a:ext cx="721440" cy="44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1" name="Łącznik prosty ze strzałką 13"/>
          <p:cNvCxnSpPr>
            <a:stCxn id="341" idx="0"/>
          </p:cNvCxnSpPr>
          <p:nvPr/>
        </p:nvCxnSpPr>
        <p:spPr>
          <a:xfrm flipV="1">
            <a:off x="4792320" y="2819160"/>
            <a:ext cx="1080" cy="848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2" name="Łącznik prosty ze strzałką 15"/>
          <p:cNvCxnSpPr/>
          <p:nvPr/>
        </p:nvCxnSpPr>
        <p:spPr>
          <a:xfrm flipV="1">
            <a:off x="5661000" y="3250800"/>
            <a:ext cx="937440" cy="637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3" name="Łącznik prosty ze strzałką 20"/>
          <p:cNvCxnSpPr/>
          <p:nvPr/>
        </p:nvCxnSpPr>
        <p:spPr>
          <a:xfrm>
            <a:off x="5652720" y="4714560"/>
            <a:ext cx="803880" cy="353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54" name="pole tekstowe 22"/>
          <p:cNvSpPr/>
          <p:nvPr/>
        </p:nvSpPr>
        <p:spPr>
          <a:xfrm rot="21013800">
            <a:off x="3184560" y="86652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GODNOŚĆ Z 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ole tekstowe 23"/>
          <p:cNvSpPr/>
          <p:nvPr/>
        </p:nvSpPr>
        <p:spPr>
          <a:xfrm rot="388200">
            <a:off x="5783040" y="3819240"/>
            <a:ext cx="34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               </a:t>
            </a: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WYKONAL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I EFEKTYWNOŚĆ KOSZT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Faza W – </a:t>
            </a:r>
            <a:r>
              <a:rPr b="1" lang="pl-PL" sz="4200" spc="-1" strike="noStrike">
                <a:solidFill>
                  <a:srgbClr val="00b050"/>
                </a:solidFill>
                <a:latin typeface="Calibri"/>
              </a:rPr>
              <a:t>Efekt ekologiczny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rostokąt 2"/>
          <p:cNvSpPr/>
          <p:nvPr/>
        </p:nvSpPr>
        <p:spPr>
          <a:xfrm>
            <a:off x="2654280" y="1197000"/>
            <a:ext cx="6310440" cy="43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podlegają założenia i dane będące podstawą wyliczenia efektu ekologicznego – czy są wiarygodne i wskazują na możliwość osiągnięcia wskazanego efektu ekologicznego? –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jest to warunek konieczny pozytywnej ocen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ramach kryteriu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 dodatkowo ocenie  punktowej podlegają  ogólnie następujące zagadnienia (szczegółowo sprecyzowane w kryteriach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enie korzyści wynikających z zastosowania wyników projektu w praktyce gospodarczej wraz z analizą potencjału rynkowego  rozwiązania będącego wynikiem projektu  -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rawidłowe wypełnienie wniosku w tym zakresie jest konieczne dla uzyskanie minimum punktowego warunkującego pozytywna ocenę w zakresie kryterium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raz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tencjał wyników projektu w kontekście aktualnego stanu techniki - przewaga proponowanego rozwiązania nad obecnie stosowanymi, uzasadnione zapotrzebowanie rynkowe na wynik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ole tekstowe 3"/>
          <p:cNvSpPr/>
          <p:nvPr/>
        </p:nvSpPr>
        <p:spPr>
          <a:xfrm>
            <a:off x="179280" y="5157720"/>
            <a:ext cx="878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fazie W określamy konkretny efekt ekologiczny, przedstawiamy liczbowo parametry możliwe do osiągnięcia w porównaniu do szeroko obecnie stosowanych rozwiązań oraz sparametryzowaną metodologię jego obliczenia. Potwierdzenie rzeczywistego jego uzyskania spodziewamy się po zakończeniu realizacji przedsięwzię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lipsa 5"/>
          <p:cNvSpPr/>
          <p:nvPr/>
        </p:nvSpPr>
        <p:spPr>
          <a:xfrm>
            <a:off x="14400" y="15001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ma sparametryzowany i uprawdopodobniony efekt ekologicz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– </a:t>
            </a:r>
            <a:r>
              <a:rPr b="1" lang="pl-PL" sz="4200" spc="-1" strike="noStrike">
                <a:solidFill>
                  <a:srgbClr val="00b050"/>
                </a:solidFill>
                <a:latin typeface="Calibri"/>
              </a:rPr>
              <a:t>Efekt ekologiczny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rostokąt 2"/>
          <p:cNvSpPr/>
          <p:nvPr/>
        </p:nvSpPr>
        <p:spPr>
          <a:xfrm>
            <a:off x="900000" y="133020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Uproszczony schemat ideowy określenia efektu ekologicznego w Fazie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rostokąt 1"/>
          <p:cNvSpPr/>
          <p:nvPr/>
        </p:nvSpPr>
        <p:spPr>
          <a:xfrm>
            <a:off x="179280" y="1727280"/>
            <a:ext cx="8785440" cy="107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Wybór obszaru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. Wybieramy główną cechę wdrażanej innowacji która jednocześnie skutkuje najbardziej efektywnym, miarodajnym, zmniejszeniem oddziaływania na środowisko przynajmniej w jednym ze wskazanych obszarów dzięki wdrożeniu w stosunku do istniejących referencyjnych rozwiązań/instalacji/produktów/procesów. Można wybrać kilka parametrów najlepiej określających przewagi innowacyjnego rozwiąz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rostokąt 6"/>
          <p:cNvSpPr/>
          <p:nvPr/>
        </p:nvSpPr>
        <p:spPr>
          <a:xfrm>
            <a:off x="179280" y="3201840"/>
            <a:ext cx="8785440" cy="148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Metodologia i sparametryzowanie.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Przedstawiamy we wniosku propozycję metodologii obliczania, sparametryzowania efektu środowiskowego. Określamy i uzasadniamy i dokumentujemy obciążenie środowiskowe w ramach wybranego obszaru istniejących referencyjnych rozwiązań/instalacji/produktów/procesów w przeliczeniu np. na jednostkę gotowego produktu/jednostkę surowca/czas pracy oraz przedstawiamy liczbowo w podobnych warunkach pracy naszą wdrażaną innowację. Różnicę możemy przedstawić jako spodziewany efekt ekologiczny z jednoczesnym podaniem warunków jego uzyskania: np.: wielkości rocznej produkcji itp. </a:t>
            </a:r>
            <a:r>
              <a:rPr b="1" lang="pl-PL" sz="1400" spc="-1" strike="noStrike">
                <a:solidFill>
                  <a:srgbClr val="ffc000"/>
                </a:solidFill>
                <a:latin typeface="Calibri"/>
              </a:rPr>
              <a:t>Metodologia określenia efektu ekologicznego, jego parametry będą podstawą oceny ekologiczno-technicznej na etapie oceny merytoryczne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rostokąt 7"/>
          <p:cNvSpPr/>
          <p:nvPr/>
        </p:nvSpPr>
        <p:spPr>
          <a:xfrm>
            <a:off x="179280" y="5084640"/>
            <a:ext cx="8785440" cy="1008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ozliczanie efektu ekologicznego.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Należy pamiętać, że z przedstawionego efektu należy się rozliczyć po zakończeniu realizacji przedsięwzięcia. Efekt powinien być określony w sposób wiarygodny, gwarantujący jego bezpieczne osiągnięcie a we wniosku powinna być przedstawiona metodyka potwierdzenia jego osiągnięcia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załka w dół 3"/>
          <p:cNvSpPr/>
          <p:nvPr/>
        </p:nvSpPr>
        <p:spPr>
          <a:xfrm>
            <a:off x="3959280" y="2876400"/>
            <a:ext cx="1225440" cy="252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załka w dół 9"/>
          <p:cNvSpPr/>
          <p:nvPr/>
        </p:nvSpPr>
        <p:spPr>
          <a:xfrm>
            <a:off x="3959280" y="4761000"/>
            <a:ext cx="1225440" cy="252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7280" y="357120"/>
            <a:ext cx="71391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Faza B+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79280" y="1700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Faza B+R posiada tylko kryteria jakościowe dopuszczają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ażda pozycja jest oceniana na zasadzie spełnia – nie spełnia. Nie ma punktacj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Negatywna ocena któregokolwiek kryterium powoduje odrzucenie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zór karty oceny znajduje się na końcu dokumentu „Program Priorytetowy” odpowiedniego dla danego nab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okument można znaleźć pod poniższym link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Calibri"/>
              </a:rPr>
              <a:t>http://nfosigw.gov.pl/download/gfx/nfosigw/pl/nfoopisy/1815/1/5/pp_wsaprcie_dla_innowacji_19.03.2019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Realność wdrożenia przyjętego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Przygotowanie instytucjonal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rostokąt 2"/>
          <p:cNvSpPr/>
          <p:nvPr/>
        </p:nvSpPr>
        <p:spPr>
          <a:xfrm>
            <a:off x="2654280" y="1341360"/>
            <a:ext cx="6165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w ramach ww. kryterium podlegaj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enie wyboru przyjętego rozwiązania/technologii (w tym wskazanie obecnego stanu technik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ealność wdrożenia przyjętego rozwiązania (w tym: możliwość utrzymania trwałości rzeczowej i ekologicznej, realistyczny harmonogram wdrażania z uwzględnieniem posiadanych pozwoleń i harmonogramu pozyskiwania pozostałych);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a przygotowania instytucjonalnego do wdrożenia przyjętego rozwiązania (czy możliwe jest sprawne wdrożenie projektu i jego trwałość instytucjonalna - ocena dotyczy również podmiotu upoważnionego do ponoszenia kosztów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ając wybór rozwiązania należy rozważyć rozwiązania alternatywne – uwagi podobnie jak dla fazy B+R.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egatywna ocen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tym obszarze (pierwszy z ww. tiret)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 powoduje odrzucenia wniosk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ole tekstowe 3"/>
          <p:cNvSpPr/>
          <p:nvPr/>
        </p:nvSpPr>
        <p:spPr>
          <a:xfrm>
            <a:off x="324000" y="5619600"/>
            <a:ext cx="84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uzasadnionych przypadkach należy wyczerpująco uzasadnić brak alternatywnych rozwiąza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 –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Realność wdrożenia przyjętego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Przygotowanie instytucjonal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rostokąt 2"/>
          <p:cNvSpPr/>
          <p:nvPr/>
        </p:nvSpPr>
        <p:spPr>
          <a:xfrm>
            <a:off x="2654280" y="1674720"/>
            <a:ext cx="6165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ealność wdrożenia - brak możliwości utrzymania trwałości rzeczowej i ekologicznej w okresie 5 lat, brak realistycznego harmonogramu wdrażania projektu,  brak wiarygodnych informacji dotyczących prawa do dysponowania gruntami/obiektami na cele inwestycji, niezbędnej dokumentacji technicznej i projektowej, decyzji, uzgodnień, pozwoleń –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cena negatyw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celu uzyska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zytywnej ocen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leży spełnić ww. warunki, przy czym odnośnie pozwoleń, decyzji i innych dokumentów – na etapie aplikacyjnym mogą jeszcze wystąpić braki, lecz konieczne jest przedstawieni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realistycznego harmonogramu pozyskiwania pozostałych niezbędnych dokumentó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przypadku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ełnej gotowośc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edsięwzięcia do realizacji, w tym posiadania kompletu niezbędnych dokumentów i uzgodnień – dodatkowe punkty zgodnie z kryteriami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cena maksymal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 –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Realność wdrożenia przyjętego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Przygotowanie instytucjonal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rostokąt 2"/>
          <p:cNvSpPr/>
          <p:nvPr/>
        </p:nvSpPr>
        <p:spPr>
          <a:xfrm>
            <a:off x="2843280" y="1916280"/>
            <a:ext cx="597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przypadku braku doświadczenia w realizacji projektów z dziedziny objętej wnioskiem lub podobnych, braku przejrzystej struktury realizacji projektu, potencjału organizacyjnego, przy jednoczesnym braku wykazania możliwości pozyskania odpowiedniego wsparcia zewnętrzneg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 są przyznawane punkty w ramach kryterium. Negatywna ocen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ygotowania instytucjonalneg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 powoduje jednak odrzucenia wniosk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aksymalna ocena punktow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jest przyznawana w przypadku spełnie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łącznie wszystkich powyższych warunków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przy czym wymagane doświadczenie musi dotyczyć realizacj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inimum 3 projektów z dziedziny objętej wnioskiem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lub podobnych (możliwe wykazanie odpowiedniego wsparcia zewnętrzneg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596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ole tekstowe 1"/>
          <p:cNvSpPr/>
          <p:nvPr/>
        </p:nvSpPr>
        <p:spPr>
          <a:xfrm>
            <a:off x="179280" y="1413000"/>
            <a:ext cx="89647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Ocenie podleg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niezbędność zakresu przedsięwzięcia dla osiągnięcia efektu ekologicznego, o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wysokość kosztów pod warunkiem zaakceptowania ich kwalifikowalności w poszczególnych kategor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Kwalifikowalność wydatków w fazie 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rzedsięwzięcia realizowane </a:t>
            </a: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w istniejącym lub nowopowstałym przedsiębiorstwie /zakładzie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 polegające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•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uruchomieniu produkcji nowego lub zmodernizowanego wyrobu/technologi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•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wdrożeniu nowej albo znacząco udoskonalonej technologii, które służą poprawie efektywności wykorzystania zasobów naturalnych, zmniejszają negatywny wpływ człowieka na środowisko lub wzmacniają odporność gospodarki na presje środowisk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Kwalifikowalność kosztów - zgodnie z „Wytycznymi NFOŚiGW w zakresie kosztów kwalifikowanych” znajdującymi się pod adres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Arial"/>
              </a:rPr>
              <a:t>http://nfosigw.gov.pl/download/gfx/nfosigw/pl/nfoopisy/352/3/7/wytyczne_w_zakresie_kosztow_kwalifikowanych.pd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z uwzględnieniem zastrzeżeń (wyłączeń) określonych w Programie Priorytetow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58560" y="549360"/>
            <a:ext cx="78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ole tekstowe 1"/>
          <p:cNvSpPr/>
          <p:nvPr/>
        </p:nvSpPr>
        <p:spPr>
          <a:xfrm>
            <a:off x="179280" y="1341360"/>
            <a:ext cx="896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2) Koszty kwalifikowane -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godnie z „Wytycznymi NFOŚiGW w zakresie kosztów kwalifikowanych”, z zastrzeżeniem, ż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fazie 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) w ramach kategorii 3.1 „Przygotowanie przedsięwzięcia” kwalifikuje się tylko „Projekt budowlany i wykonawczy”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) wyłącza się koszty kategorii 3.2 „Zarządzanie przedsięwzięciem” z zastrzeżeniem, że kwalifikuje się koszty „Nadzoru inwestorskiego i autorskiego”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) wyłącza się koszty kategorii 3.3 „Koszty informacji i promocji”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) wyłącza się koszty kategorii 3.4.1 „Koszt nabycia nieruchomości niezabudowanej, nieruchomości zabudowanej, zakup gruntu”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) koszty w ramach kategorii 3.4.3 „Środki trwałe, sprzęt i wyposażenie, wartości niematerialne i prawne”, przeznaczone na zakup wartości niematerialnych i prawnych, nie mogą przekraczać 20% sumy pozostałych kosztów kwalifikowanych przedsięwzięc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) wyłącza się koszty kategorii 3.4.4 „Pozostałe koszty”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8172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ole tekstowe 1"/>
          <p:cNvSpPr/>
          <p:nvPr/>
        </p:nvSpPr>
        <p:spPr>
          <a:xfrm>
            <a:off x="108000" y="1484280"/>
            <a:ext cx="9036000" cy="48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prócz samej kwalifikowalności kosztów ocenie podlega również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sokość poszczególnych kosztów. Negatywna ocena powoduje odrzucenie wniosku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jest przyznawana w przypadku, gdy wysokość kosztów jest nieadekwatna do zakresu przedsięwzięcia lub metoda kalkulacji jest niewiarygod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aksymalną ocenę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żna uzyskać, gdy wysokość kosztów nie budzi wątpliwości, są one adekwatne do zakresu przedsięwzięcia, zostały racjonalnie oszacowane, metodyka kalkulacji jest wiarygodna. W przypadku, gd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o 20 % kosztów nie spełnia tych warunków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lub też nie przedstawiono we wniosku pełnych informacji w tym zakresie, projekt nie jest odrzucany, uzyskuje mniejszą punktację w ramach kryte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ceniana jest też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iezbędność zakresu przedsięwzięcia dla osiągnięcia efektu ekologicznego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zakres rzeczowy nie powinien obejmować elementów zbędnych, które nie są konieczne do osiągnięcia celów projektu, jednocześnie powinien gwarantować osiągnięcie tych celów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egatywna ocena powoduje odrzucenie wniosku. Maksymalną punktację można uzyska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gdy koszty są uzasadnione, adekwatne do celów przedsięwzięcia, racjonalnie oszacowane, przedstawiono wiarygodną metodę kalkulacji, wpisują się w katalog kosztów kwalifikowanych.  Gd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o 20 % kosztów budzi wątpliwoś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tych aspektach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cena nadal pozytywn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mniejsza punktacj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07640" y="620640"/>
            <a:ext cx="6634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Załączniki </a:t>
            </a:r>
            <a:br>
              <a:rPr sz="4200"/>
            </a:br>
            <a:r>
              <a:rPr b="1" lang="pl-PL" sz="1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</a:t>
            </a:r>
            <a:r>
              <a:rPr b="1" lang="pl-PL" sz="1400" spc="-1" strike="noStrike">
                <a:solidFill>
                  <a:srgbClr val="002060"/>
                </a:solidFill>
                <a:latin typeface="Calibri"/>
              </a:rPr>
              <a:t>(dot. oceny ekologiczno-technicznej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ole tekstowe 1"/>
          <p:cNvSpPr/>
          <p:nvPr/>
        </p:nvSpPr>
        <p:spPr>
          <a:xfrm>
            <a:off x="0" y="1765440"/>
            <a:ext cx="914400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Obowiązkow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mapa lokalizacyjna inwestycj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chemat technologiczny innowacyjnej technologii będącej   przedmiotem wdrażan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tudium Wykonalności (opracowane wg wymagań zawartych w Instrukcji             sporządzania Studium Wykonalności dla przedsięwzięcia ubiegającego się o dofinansowanie ze środków NFOŚiGW dostępnej w generatorze wnioskó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Nieobowiązkowe - uzupełniają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plan sytuacyjny (o ile dotycz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uzyskane główne dokumenty administracyjne przedstawiające proces uzgodnieniowy przeprowadzenia inwestycji: np. decyzje środowiskowe, pozwolenie na budowę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harmonogram realizacji prac budowlanych (jeśli dotycz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harmonogram uzyskiwania zgód administracyjnych (jeśli dotycz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udokumentowanie prawa do dysponowania nieruchomości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wyceny, otrzymane oferty, kosztorys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dodatkowe dokumenty: zgłoszenia patentowe, licencje, umowy z dostawcami, listy intencyjne potwierdzające zapotrzebowanie na produkt i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Wypełnianie wniosku w GWD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Generator wniosków o dofinansowanie jest narzędziem umożliwiającym przygotowanie i przekazanie do Narodowego Funduszu Ochrony Środowiska i Gospodarki Wodnej wniosków o dofinansowanie projektów ze środków krajowych oraz realizowanych w ramach POIiŚ 2014-202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Korzystanie z Generatora polega na rejestrowaniu danych poprzez sieć Internet w bazie NFOŚiG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 celu zautomatyzowania pracy – system posiada formularze wniosków gotowe do wypełnienia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http://gwd.nfosigw.gov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onieczne jest założenie konta użytkownika. Po zalogowaniu się do generatora dostępne są m.in. instrukcje oraz pomoc kontekstowa, czyli uwagi dotyczące wypełniania wniosku i niezbędnego zakresu informacji w poszczególnych punktach formularz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ymbol zastępczy zawartości 2"/>
          <p:cNvSpPr/>
          <p:nvPr/>
        </p:nvSpPr>
        <p:spPr>
          <a:xfrm>
            <a:off x="415800" y="342756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Dziękuję za uwagę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ymbol zastępczy zawartości 2"/>
          <p:cNvSpPr/>
          <p:nvPr/>
        </p:nvSpPr>
        <p:spPr>
          <a:xfrm>
            <a:off x="0" y="551664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na Kołodzi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050560" y="356760"/>
            <a:ext cx="663588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Faza 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79280" y="1700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Faza W posiada tylko kryteria jakościowe punktowe w zakresie oceny </a:t>
            </a:r>
            <a:br>
              <a:rPr sz="1800"/>
            </a:b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ekologiczno - techniczne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niosek musi otrzymać całościowo oraz w grupach (I, II, III) co najmniej 60% możliwych do zdobycia punkt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ażde kryterium posiada minimum punktowe, oprócz II.1 oraz II.3, dla których negatywna ocena nie powoduje odrzucenia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zór karty oceny znajduje się na końcu dokumentu „Program Priorytetowy” odpowiedniego dla danego nab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okument można znaleźć pod poniższym link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Calibri"/>
              </a:rPr>
              <a:t>http://nfosigw.gov.pl/download/gfx/nfosigw/pl/nfoopisy/1815/1/5/pp_wsaprcie_dla_innowacji_19.03.2019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ybuch  2 19"/>
          <p:cNvSpPr/>
          <p:nvPr/>
        </p:nvSpPr>
        <p:spPr>
          <a:xfrm>
            <a:off x="3030480" y="2614680"/>
            <a:ext cx="3660840" cy="326232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lipsa 4"/>
          <p:cNvSpPr/>
          <p:nvPr/>
        </p:nvSpPr>
        <p:spPr>
          <a:xfrm>
            <a:off x="3468600" y="3522600"/>
            <a:ext cx="2332080" cy="1441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faza badawczo rozwoj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lipsa 9"/>
          <p:cNvSpPr/>
          <p:nvPr/>
        </p:nvSpPr>
        <p:spPr>
          <a:xfrm>
            <a:off x="395280" y="442908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zy innowacja j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- na poziomie regionalnym/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krajowym/międzynarodowy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produktowa, procesow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lipsa 16"/>
          <p:cNvSpPr/>
          <p:nvPr/>
        </p:nvSpPr>
        <p:spPr>
          <a:xfrm>
            <a:off x="3538440" y="981000"/>
            <a:ext cx="2546280" cy="1816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jest zgodne z: KIS 2, KIS 3, KIS 4, KIS 5, KIS 6, KIS 7, KIS 10, KIS 13, KIS 15?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(*) w tym KIS nr 2, 3, 10, 15, 13 – w wybranym zakre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Elipsa 17"/>
          <p:cNvSpPr/>
          <p:nvPr/>
        </p:nvSpPr>
        <p:spPr>
          <a:xfrm>
            <a:off x="6448320" y="206208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w znacznym stopniu prowadzić będzie do znacznego zmniejszenia oddziaływania na środowisk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Elipsa 18"/>
          <p:cNvSpPr/>
          <p:nvPr/>
        </p:nvSpPr>
        <p:spPr>
          <a:xfrm>
            <a:off x="5661000" y="4282920"/>
            <a:ext cx="3422520" cy="1990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 uzasadnienie wyboru rozwiązania i zapotrzebowanie rynkowe na wyniki bada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soby materialne i kadr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 efekty ekonomicz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ysokość i kwalifikowalność  wydatkó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Elipsa 7"/>
          <p:cNvSpPr/>
          <p:nvPr/>
        </p:nvSpPr>
        <p:spPr>
          <a:xfrm>
            <a:off x="727200" y="2349360"/>
            <a:ext cx="2568600" cy="1692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Kto posiada prawo do innowacj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licencj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głoszenie patent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mowa, porozumienie, listy intencyj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ole tekstowe 1"/>
          <p:cNvSpPr/>
          <p:nvPr/>
        </p:nvSpPr>
        <p:spPr>
          <a:xfrm rot="732000">
            <a:off x="6460560" y="156168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00"/>
                </a:solidFill>
                <a:latin typeface="Arial"/>
              </a:rPr>
              <a:t>EFEKT EKOLOGICZ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ole tekstowe 2"/>
          <p:cNvSpPr/>
          <p:nvPr/>
        </p:nvSpPr>
        <p:spPr>
          <a:xfrm rot="19480200">
            <a:off x="-32400" y="21729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INNOWACYJ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Łącznik prosty ze strzałką 8"/>
          <p:cNvCxnSpPr/>
          <p:nvPr/>
        </p:nvCxnSpPr>
        <p:spPr>
          <a:xfrm flipH="1">
            <a:off x="2941200" y="4581000"/>
            <a:ext cx="843840" cy="38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7" name="Łącznik prosty ze strzałką 11"/>
          <p:cNvCxnSpPr/>
          <p:nvPr/>
        </p:nvCxnSpPr>
        <p:spPr>
          <a:xfrm flipH="1" flipV="1">
            <a:off x="3203640" y="3598560"/>
            <a:ext cx="5814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8" name="Łącznik prosty ze strzałką 13"/>
          <p:cNvCxnSpPr/>
          <p:nvPr/>
        </p:nvCxnSpPr>
        <p:spPr>
          <a:xfrm flipV="1">
            <a:off x="4792320" y="2819160"/>
            <a:ext cx="1080" cy="754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9" name="Łącznik prosty ze strzałką 15"/>
          <p:cNvCxnSpPr/>
          <p:nvPr/>
        </p:nvCxnSpPr>
        <p:spPr>
          <a:xfrm flipV="1">
            <a:off x="5721120" y="3280680"/>
            <a:ext cx="880200" cy="586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00" name="Łącznik prosty ze strzałką 20"/>
          <p:cNvCxnSpPr/>
          <p:nvPr/>
        </p:nvCxnSpPr>
        <p:spPr>
          <a:xfrm>
            <a:off x="5660640" y="4797360"/>
            <a:ext cx="616680" cy="380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01" name="pole tekstowe 22"/>
          <p:cNvSpPr/>
          <p:nvPr/>
        </p:nvSpPr>
        <p:spPr>
          <a:xfrm rot="21013800">
            <a:off x="3489480" y="65376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GODNOŚĆ Z 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ole tekstowe 23"/>
          <p:cNvSpPr/>
          <p:nvPr/>
        </p:nvSpPr>
        <p:spPr>
          <a:xfrm rot="388200">
            <a:off x="5783400" y="37177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                </a:t>
            </a: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WYKONAL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I EFEKTYWNOŚĆ KOSZT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ybuch  2 5"/>
          <p:cNvSpPr/>
          <p:nvPr/>
        </p:nvSpPr>
        <p:spPr>
          <a:xfrm rot="1139400">
            <a:off x="4997520" y="2955960"/>
            <a:ext cx="3684600" cy="327960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Co to jest innowacyjność?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Elipsa 4"/>
          <p:cNvSpPr/>
          <p:nvPr/>
        </p:nvSpPr>
        <p:spPr>
          <a:xfrm>
            <a:off x="5605560" y="4005360"/>
            <a:ext cx="2016000" cy="1295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rostokąt 15"/>
          <p:cNvSpPr/>
          <p:nvPr/>
        </p:nvSpPr>
        <p:spPr>
          <a:xfrm>
            <a:off x="0" y="126828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rzez </a:t>
            </a: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innowacyjność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 (wg Podręcznika OSLO - zasady gromadzenia i interpret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danych dotyczących innowacji) należy rozumieć wdrożenie nowego lub znaczą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udoskonalonego produktu (wyrobu lub usługi) lub procesu, nowej met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marketingowej lub nowej metody organizacyjnej w praktyce gospodarczej, organiz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miejsca pracy lub stosunkach z otoczeni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Obraz 1" descr=""/>
          <p:cNvPicPr/>
          <p:nvPr/>
        </p:nvPicPr>
        <p:blipFill>
          <a:blip r:embed="rId1"/>
          <a:stretch/>
        </p:blipFill>
        <p:spPr>
          <a:xfrm>
            <a:off x="339840" y="3622680"/>
            <a:ext cx="2469960" cy="2470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Co to jest innowacyjność?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Elipsa 4"/>
          <p:cNvSpPr/>
          <p:nvPr/>
        </p:nvSpPr>
        <p:spPr>
          <a:xfrm>
            <a:off x="6443640" y="472284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rostokąt 15"/>
          <p:cNvSpPr/>
          <p:nvPr/>
        </p:nvSpPr>
        <p:spPr>
          <a:xfrm>
            <a:off x="0" y="1341360"/>
            <a:ext cx="9144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Innowacja produktowa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(w obrębie produktu) to wprowadzenie wyrobu lub usługi, które są nowe lub znacząco udoskonalone w zakresie swoich cech lub zastosowań. Zalicza się tu znaczące udoskonalenia pod względem specyfikacji technicznych, komponentów i materiałów, wbudowanego oprogramowania, łatwości obsługi l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innych cech funkcjonalnych. (…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Innowacje produktowe nie obejmuj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niewielkich zmian lub uleps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rutynowych aktualizacji/modernizacj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regularnych zmian sezonowych (np. w przypadku serii odzieży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dostosowywania produktu do potrzeb jednego klienta, które nie obejmuje znacząco odmiennych cech w porównaniu do produktów wyprodukowanych dla innych klien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Innowacja procesowa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(w obrębie procesu), to wdrożenie nowej lub znacząco udoskonalonej metody produkcji lub dostarczania. Zalicza się tu znaczące zmiany w zakresie technologii, urządzeń oraz/lub oprogramowania. Innowacje w obrębie procesów mogą mieć za cel obniżenie kosztów jednostkowych produkcji lub dostawy, podniesienie jakości, produkcję bądź dostarczanie nowych lub znacząco udoskonalonych produk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Innowacje w obrębie procesów nie obejmuj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niewielkich zmian lub uleps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wzrostu zdolności produkcyjnych lub usługowych uzyskanego dzięki dodan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systemów produkcyjnych lub logistycznych, które są bardzo podobne do t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stosowanych dotychcz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Jak uzasadnić innowacyjność?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Elipsa 4"/>
          <p:cNvSpPr/>
          <p:nvPr/>
        </p:nvSpPr>
        <p:spPr>
          <a:xfrm>
            <a:off x="6443640" y="472284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rostokąt 15"/>
          <p:cNvSpPr/>
          <p:nvPr/>
        </p:nvSpPr>
        <p:spPr>
          <a:xfrm>
            <a:off x="179280" y="1268280"/>
            <a:ext cx="878544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Jak uzasadnić innowacyjność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Uzasadnienie innowacyjności powinno zawierać w szczególnoś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informację, które z elementów linii technologicznej produkcji lub procesu, lub jaka cecha/właściwość wyrobu  są innowacyjne, a które pełnią rolę uzupełniając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analizę informującą, czy wdrażana/kupowana technologia lub nowy/zmodernizowany wyrób są innowacyjne względem oferty już istniejącej na rynku i na czym ta innowacyjność poleg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spis podstaw/źródeł danych, na podstawie których określono stopień innowacyjności technologii/wyrobu, np. podanie tytułów raportów, roczników statystycznych i dat ich wydania, adresów stron internetowych, roczników publikacji itp. oraz wskazaniem miejsca ich dostępności, w celu zweryfikowania z informacjami przedstawiony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w opinii, z zastrzeżeniem, że podstawą opinii nie mogą być jedynie ogólne teksty reklamowo-opisowe dotyczące wdrażanej/kupowanej technologi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2060"/>
                </a:solidFill>
                <a:latin typeface="Arial"/>
              </a:rPr>
              <a:t>Wa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Kto posiada prawa do danej innowacji? Kto jest jej autor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Czy Wnioskodawca posiada prawa do danej innowacji? Czy innowac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podlega ochronie patentowej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Zależnie od przypadku należy udokumentować powyższe poprzez załączeni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oświadczeń, właściwych dokumentów, umów, listów intencyjnych it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Zasady oceny innowacyjności: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Elipsa 4"/>
          <p:cNvSpPr/>
          <p:nvPr/>
        </p:nvSpPr>
        <p:spPr>
          <a:xfrm>
            <a:off x="6443640" y="472284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rostokąt 15"/>
          <p:cNvSpPr/>
          <p:nvPr/>
        </p:nvSpPr>
        <p:spPr>
          <a:xfrm>
            <a:off x="468360" y="1773360"/>
            <a:ext cx="8424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Projekt winien dotyczyć innowacji produktowej lub procesowej. W konkursie </a:t>
            </a:r>
            <a:r>
              <a:rPr b="0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nie jest możliwe dofinansowanie projektów, których efektem jest wyłącznie powstanie rozwiązania stanowiącego innowację marketingową lub organizacyjną.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Do oceny kryterium przyjmuje się przywołaną wyżej definicję innowacji określoną w podręczniku OECD Podręcznik Osl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0504d"/>
                </a:solidFill>
                <a:latin typeface="Arial"/>
              </a:rPr>
              <a:t>http://nfosigw.gov.pl/gfx/nfosigw/userfiles/files/srodki_krajowe/2018/sokol/szkolenia/innowacyjnosc_-_definicja_i_zasady_oceny_2.11.20151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W ramach przedmiotowego kryterium ocenie podle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- czy rezultat projektu charakteryzuje się innowacyjnością co najmniej w skali polskiego rynku, w kontekście posiadanych przez niego nowych cech, funkcjonalności w porównaniu do rozwiązań dostępnych na polskim ryn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Negatywna ocena kryterium powoduje odrzucenie wnio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Krajowe Inteligentne Specjalizacje (KIS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79280" y="21337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rajowe Inteligentne Specjalizacje – szczegółowy opis wszystkich KIS znajduje się pod poniższym linki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c0504d"/>
                </a:solidFill>
                <a:latin typeface="Calibri"/>
              </a:rPr>
              <a:t>http://nfosigw.gov.pl/gfx/nfosigw/userfiles/files/srodki_krajowe/programy_2019/v_sokol/opisy_kis_wersja_5_2019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IS, które obowiązują w danym naborze, są wskazane w ogłoszeniu o naborze (aktualny dokument) i Programie Priorytetowym (wskazane numery KI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Negatywna ocena kryterium powoduje odrzucenie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1:17:11Z</dcterms:created>
  <dc:creator>MPietras</dc:creator>
  <dc:description/>
  <dc:language>en-US</dc:language>
  <cp:lastModifiedBy>Kołodziej Anna</cp:lastModifiedBy>
  <cp:lastPrinted>2016-08-08T05:02:58Z</cp:lastPrinted>
  <dcterms:modified xsi:type="dcterms:W3CDTF">2019-06-13T08:00:12Z</dcterms:modified>
  <cp:revision>514</cp:revision>
  <dc:subject/>
  <dc:title>Slajd 1</dc:title>
</cp:coreProperties>
</file>