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2060-3DE9-4EB8-B3BD-34287706237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B756-6F7D-4A1F-B996-87FD656AA7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76B7-9694-455D-AE1B-CDFB954FC2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173D-F7C6-4B13-96B1-C3386B6755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P. W Anglii przy powitaniu nie jest dobrze widziane wpadanie sobie w ramiona, w Japonii natomiast – podawanie ręki, w krajach arabskich – patrzenie w oc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68E6-3366-4F52-AEDF-FA76AE6F08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B549-A56F-4754-8BA2-704E245889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C3C6-D7B6-4ECA-9D9A-FAC111410C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3968-DC22-4D25-B241-ACCEA78A6CC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93F5-2F82-4390-A935-D7341C0006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F9C9-4E80-4447-A305-A7039F568A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4AFA-62B6-4082-97FB-E22BB68495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0F9D-1E9B-4852-BB1D-5EB15D50A39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F82C-C062-4B95-8B45-32750837D1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y organizacja działała ludzie muszą współpracować. Pracownicy mają względem siebie różne potrzeby i różne zobowiązania, angażują się w proces wymiany usług, są dla siebie zarówno klientami jak i usługodawcami. Wzajemne traktowanie siebie jako klientów inspiruje do uświadomienia ogólnych potrzeb organizacyjnych dla poprawy efektywności dział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ADF6-3D27-472D-9339-C7D9A2E431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0775-2FF4-411E-A15C-C6436B51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C18A-DAAD-47F1-890A-765ECE0B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F026-61E9-41F7-B4B4-8D4B839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FE55-9102-402E-A132-423020FF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BC04-2BDC-438A-833F-C5D04C17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7839-66A1-496A-BD22-AC945824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2B94-D0B5-48C7-87CD-FE5582A9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8892-E307-478E-9EB2-9424A945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FDD6-AF09-4EA0-B2E5-19B6D844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9B47-1870-49DE-9FE9-BE891390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63E4-87F5-4313-8D13-8EC798C8A1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0A837-F131-4923-A49D-D2F1A7E5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00202-FE4C-443C-97A2-3DB0BE13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0ECC9-D7E1-4AA7-8289-19A4C467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285FE-C76B-4325-ADCC-48087A07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B534A-BBF4-4187-B221-51445665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CA14E-9510-42A7-8724-48F111FB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26968-7E33-4508-A4E0-FA1B2ABF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7D144-AFE3-4A10-B9CE-B88B57D5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15F57-9D99-480E-AA76-4960B96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83F31-11BB-48F4-A422-2747BF49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09208-72DA-470E-98CC-72B88EFA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14D89-14ED-4BA2-B3D1-3CF4F61D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A5DD2-8514-4B8C-B139-A874A41A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20675-90EF-4A95-9141-C6D19B38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A843A-A237-4561-B6D5-CAAE2237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5B089-3986-4D63-BCC2-0E005E64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775E3-712E-4EC7-BCF7-37DEC654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55ECA-EDF1-4AE6-AB9A-3DEBF0D1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93A1E-3BAF-4972-96C6-D3FCB400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25026-F293-4AD3-9BE7-1967F87A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7C349-8844-4C01-B7EE-19D072B8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BDEA4-370F-4176-B8D7-3F98C368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045B3-4A3C-4482-96A3-9BA0C146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FD406-6FBA-4601-ADB1-52A80E72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5E51B-6793-4EBF-BDFC-6887D194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EEB52F-FEFE-4C71-ABF6-7CB8E2FE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991652-2349-4155-A2A8-FC34664F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B63C2B-A023-497D-BDAE-EF8A967B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C655EF-EC18-45F1-9F6E-BE108174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0F9F3C-6A17-4D8F-828A-8B819828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41E923-795C-478B-93D3-A7BE1977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EC389B-FF57-499A-885A-9062819D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75A065-A1E2-408B-9DAF-E0CF445D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0A972F-2DDB-4640-B984-F72F5B94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F2EEED-334B-4CAB-B626-44D6ABDC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A99A94-34A4-441C-B227-AD2B5F60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11C6B1-EAAE-4503-858E-9B046C2C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3C45A8-CEEB-4B95-B5C1-7B438F48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CE7BCE-8C54-4731-BA59-9EA8C351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3AC049-498B-40C1-9169-8FCCA835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B4D10E-9B67-450A-B281-83075B27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17E5B-2927-4BF2-8A5C-A025261E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EF2CA8-8F7A-424D-BE68-5AE95FE8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D27FF1-51FA-4537-B3D3-B9DF6122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1AD1BD-1238-4D22-9944-C623C7A4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630545-2BD4-49FF-84A2-226AD257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8D309E-E366-4A7E-A7E4-C6B26D32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DBF6D0-28A9-406A-8BF7-CB07EDE4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5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6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49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kąt 10"/>
          <p:cNvSpPr/>
          <p:nvPr/>
        </p:nvSpPr>
        <p:spPr>
          <a:xfrm>
            <a:off x="7380360" y="6237360"/>
            <a:ext cx="1511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9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9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"/>
          </p:nvPr>
        </p:nvSpPr>
        <p:spPr>
          <a:xfrm>
            <a:off x="446040" y="6230520"/>
            <a:ext cx="130824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2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F895-209E-4E70-894A-04BB48FB373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42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5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A142-A019-4084-B263-C3FD1799ACE8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90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8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2CEA-0C84-4BF0-A1A2-42F622377E5A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38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8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1BD2-DBAC-4E0F-BFE9-D6CA6BFF70CD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332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333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F650-8432-4170-8F6A-78D03854C9F0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ady profesjonalnej obsługi klienta. Szkolenie dla pracowników Kancelarii Ogólnej Lubuskiego Urzędu Wojewódzkiego w Gorzowie Wielkopol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minując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ja tutaj rozdaję karty”, gdzie urzędnik ma ostatnie, decydujące sło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legł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klient nasz pan i może wszystk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artners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obie strony mają swoje prawa i obowiązki, a zasadą jest „klient nasz partne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4802-B245-45AC-9DD6-324B1513DF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dele relacji urzędnik - k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8A7A-9C6D-4A5B-978B-7EA53639A1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928880"/>
            <a:ext cx="82296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7D3C-B347-493F-9082-643EF40DFE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ypy klientów - filozo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1201680"/>
            <a:ext cx="853452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ów ze względu na cechy znajdujące wyraz w ich zachowaniach można podzielić na określone typ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wg zachow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6D53-7736-457F-8C56-5525DC84BA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jawnia się atakują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gwałto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obraża i zastras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ombarduje bezlitosną krytyk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hołduje zasadzie, że poniżanie innych świadczy o jego własnej s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4654-838B-4EA8-BC65-311558E409B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ciąż narzeka na wszystko wokó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ecjalizuje się w znajdywaniu wad we wszyst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robiazg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rzekonany o własnym perfekcjonizmie, szuka dziury w prac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4B7D-C97E-4659-9131-69E714A316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44792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odważa i krytyk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wielbia niweczyć i deprecjonować wszystko co zostało powiedzi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zgorzkniały, sceptyczny i sarka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uf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C7BA-2189-4EE6-BC7A-251F30C92C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447920"/>
            <a:ext cx="853452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pewny swoich racji, lubi być w centrum uwa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ywa despotyczny lub przekonywują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raktuje swoich rozmówców jak dzieci, próby dyskusji wydają się być bezce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minuje podczas rozmów, traktując siebie jak eksperta w danej dziedzi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8538-FBB5-44D7-BA5E-E300184481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714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problemy z wyrażaniem własnych myśli, pragnień i opin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łabo daje sobie radę ze stresem, ociąga się, spóź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kłopoty z podejmowaniem decyzji, odkłada je na późni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ądzi, że jego zdanie się nie lic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B57-6C41-4A9C-AAD0-62A1DADA2C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7176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rawia wrażenie rozsądnego, wiern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lubi być w centrum uwagi, chce być przyjacielem każd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 zawsze dotrzymuje słowa, potrafi zawieść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wcipny, konflikty z innymi łagodzi poczuciem humo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CD04-FCC9-43AF-9337-B3ED58D731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wartość prezent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4EBE-C829-4BBA-981B-E9F3C0004A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533520" y="1071720"/>
          <a:ext cx="8458200" cy="4728960"/>
        </p:xfrm>
        <a:graphic>
          <a:graphicData uri="http://schemas.openxmlformats.org/drawingml/2006/table">
            <a:tbl>
              <a:tblPr/>
              <a:tblGrid>
                <a:gridCol w="2027160"/>
                <a:gridCol w="6431040"/>
              </a:tblGrid>
              <a:tr h="5540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 klienta ukierunkowany n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ważniejsze zalec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ybkie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nuj najszybszą ścieżkę postępowania. Podkreślaj znaczenie działań klienta, które przyspieszą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bór możliw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dstaw wszystkie możliwe sposoby załatwienia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jaśnij konsekwencje przyjęcia danego sposobu postępowania (np. czas trwania, tryb rozpatrywania, możliwość odwołania się itp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jalne proble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słuchaj obaw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rezentuj powiązanie proponowanych czynności z punktu widzenia bezpieczeństwa załatwienia sprawy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ługuj się przykładami innych klientów (bez ujawniania danych personalny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wołuj odpowiednie przepisy i procedu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kazuj klientowi miejsca, w których może znaleźć opisy sposobów załatwiania tego typu spra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b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aj o doświadczenia klienta w danej spraw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rzystuj (parafrazuj wypowiedzi klien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wal, jeśli to, co robił w podobnej sprawie poprzednio, było właści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E1D-7D4B-4F12-9963-85DDCE0873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7840" y="456840"/>
            <a:ext cx="8072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DB24-766C-41FC-AD13-6C789C1BD8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to i kiedy jest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mająca potrzeb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spełniająca wymagane kryteria określone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możliwości sytu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5785-3987-41F7-81FF-86D83BC31D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można wykazać klientowi, że się o niego troszczymy, że jest dla nas waż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przez kulturę obsługi, która jest ważnym elementem kultury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9E99-E018-4F47-AC89-2A1A548EDB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10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leży być dla klien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trzeb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pierając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mpatyczny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do zastąpi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AC52-4088-4DDD-ABF9-2D84022E50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chowanie kultural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zachowanie uwzględniające model świata drugiej oso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strzeganie zasad własnej kultury nie gwarantuje nam przychylnej oceny ze stron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by uzyskać pozytywną ocenę, należy znać zasady kulturowe osób oceniając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578E-43AD-4F95-885F-0785FD6897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ejście do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8360" y="1447560"/>
            <a:ext cx="84470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wykazuje znajomość faktów, możliwości i gdy to możliwe histori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jest nastawiony na załatwienie sprawy i satysfakcję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używa odpowiednich, dopasowanych do klienta sformułow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57F5-7167-4C70-A791-B5AA878148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obsługując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066320"/>
            <a:ext cx="844704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mie słucha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bi pozytywne wrażenie, jest komunikatywna, profesjonalna w kontaktach interpersonal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pogodna i pozytywnie nastawi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wytrzymała psychicznie, aserty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akteryzuje się wysoką kulturą osobist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03B2-0605-4CFD-A44E-531A2FEE87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Świadome i celowe wywieranie wpływu oraz obrona przed manipulacją jako podstawowa kompetencja  w relacjach z klien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zyscy wywieramy wpływ i jesteśmy pod wpływem innych, choć tylko niektórzy i tylko czasami są tego świado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79A6-2A98-4C7E-A22F-A61250D502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331640"/>
            <a:ext cx="8534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KREŚLIĆ (i pamiętać), że jest się reprezentantem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ZIĘKOWAĆ za informacje, które np. pomogą usprawnić nasze dział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KLAROWAĆ, że po zajmiemy się tą sprawą zgodnie z potrzebą klienta przy zachowaniu wymagań wynikających procedur określonych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D898-DB2F-416C-9DF4-99483D832C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B302-BAE8-4F97-A71F-D492A2AA3B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255320"/>
            <a:ext cx="8686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WOŁYWAĆ SIĘ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zakładanej wiedzy klien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dokument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IEDZIEĆ to samo w inny sposób, jeśli klient nie rozu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TOWAĆ niezbędne informacje podawane przez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ÓWIĆ tonem grzecznym, nieprzepraszającym, w którym przebrzmiewa chęć znalezienia rozwiązania zaistniałej sytuacji oraz w którym słychać uśmi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39C7-8872-4289-A1E0-C2E50C6336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ego nie warto robić w rozmowie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3273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poza swoje kompeten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od negatyw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rzepraszać bez poznania fak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uczać w kwestach innych niż procedura przeprowadzenia spra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reagować na zaczep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dać się wciągnąć w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spoufalać si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C42C-177C-4588-96B8-9AC63F4D5A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kuteczne formy język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123720" y="20570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otrz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korzy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erswa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57A0-3CB6-4A28-8E1F-313331E024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595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nności i umiejętności należące do dobrej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5559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daje świadectwo dla pracy usługodawcy. Aby sobie zapewnić jego dobrą ocenę, wskazane jest prezentować odpowiednią postawę i wynikające z niej działania w oparciu o konieczne umiejęt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AF25-4DD5-463E-968D-CF5B560976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00B7-6EB7-4988-8F0F-09D1B2A579C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klient pozyskuje ocenę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6840" y="1295280"/>
            <a:ext cx="8381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wyraża potrzeby, których nie możemy zaspokoić, poniewa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ch nie rozumi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zasob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kompeten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niezgodne z naszym systemem wartości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ynikającymi z niego standarda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E5A7-3F49-470E-BBF6-F754D61FF5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w relacji z klientem zależne są 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u klienta i typu urzędnika (niekompatybilność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fesjonalizmu urzę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tuacji w której zjawił się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dzajem załatwianej spra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wydolności procesu komunikacji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przeczności interesów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AC5E-29D0-4974-8955-D0DDCB6238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pojawić się w każdym z trzech obszaró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33160" y="17524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czuć i emo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lek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kona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865-A6A4-44E2-A789-D18FE5FC05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wynikać 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ktualnego szczególnego obszaru skupienia uwa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rsonalnych metamodeli postępowani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budzonych, społecznie akceptowalnych, norm postępowania u klien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95F8-8645-408F-8887-3F7D035A66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pomaga w rozpoznaniu powodów, dla których odbieramy klienta jako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09120" y="1752480"/>
            <a:ext cx="678204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a obserw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e słuch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lowe zadawanie pyt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4722-DE5B-4B44-A9B8-007089F3369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stalanie, kto jest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143000"/>
            <a:ext cx="89154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ient to ten, kto ma potrzeby, które my możemy zaspokoi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a zasoby, które mogą zaspokoić nasze potrze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potrzeby mogą być zaspokojone przez produkty/usługi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takie potrzeb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są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zasoby mogące zaspokoić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Grupa 20"/>
          <p:cNvGrpSpPr/>
          <p:nvPr/>
        </p:nvGrpSpPr>
        <p:grpSpPr>
          <a:xfrm>
            <a:off x="609480" y="3840120"/>
            <a:ext cx="8282160" cy="1555920"/>
            <a:chOff x="609480" y="3840120"/>
            <a:chExt cx="8282160" cy="1555920"/>
          </a:xfrm>
        </p:grpSpPr>
        <p:sp>
          <p:nvSpPr>
            <p:cNvPr id="395" name="Oval 5"/>
            <p:cNvSpPr/>
            <p:nvPr/>
          </p:nvSpPr>
          <p:spPr>
            <a:xfrm>
              <a:off x="6782040" y="412956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6"/>
            <p:cNvSpPr/>
            <p:nvPr/>
          </p:nvSpPr>
          <p:spPr>
            <a:xfrm>
              <a:off x="60948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609480" y="443448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2793600" y="4308120"/>
              <a:ext cx="582120" cy="582840"/>
            </a:xfrm>
            <a:prstGeom prst="plus">
              <a:avLst>
                <a:gd name="adj" fmla="val 404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9"/>
            <p:cNvSpPr/>
            <p:nvPr/>
          </p:nvSpPr>
          <p:spPr>
            <a:xfrm>
              <a:off x="5705640" y="4232520"/>
              <a:ext cx="946440" cy="694080"/>
            </a:xfrm>
            <a:custGeom>
              <a:avLst/>
              <a:gdLst>
                <a:gd name="textAreaLeft" fmla="*/ 148680 w 946440"/>
                <a:gd name="textAreaRight" fmla="*/ 828360 w 946440"/>
                <a:gd name="textAreaTop" fmla="*/ 173520 h 694080"/>
                <a:gd name="textAreaBottom" fmla="*/ 520560 h 69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5640" bIns="356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7088760" y="4253400"/>
              <a:ext cx="160164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3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lient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856800" y="3962880"/>
              <a:ext cx="20383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682200" y="4756680"/>
              <a:ext cx="19670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3"/>
            <p:cNvSpPr/>
            <p:nvPr/>
          </p:nvSpPr>
          <p:spPr>
            <a:xfrm>
              <a:off x="352152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"/>
            <p:cNvSpPr/>
            <p:nvPr/>
          </p:nvSpPr>
          <p:spPr>
            <a:xfrm>
              <a:off x="3521520" y="4496040"/>
              <a:ext cx="211104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3740040" y="3996000"/>
              <a:ext cx="174708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3521520" y="4800960"/>
              <a:ext cx="21841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006F-28C8-405A-8736-889983BFD6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adzić sobie z narastającymi negatywnymi emocjam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dzielić siebie od pełnionej funkcji – uświadomić sobie i w pełni przyjąć, ż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ient mnie nie zna (jako człowieka), więc choćb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tego powodu jego negatywne opinie nie mogą być skierowane do m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naczącej większości przypadków nie jestem przyczyną jego emo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C9FB-7ADA-4DE6-9CD0-AE124259C5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stawa empatyczna i zasadnie asertywna w radzeniu sobie z trudnym klientem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7524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czym polega postawa empatyczna i zasadna asertywnoś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sertywne wyznaczanie granic i odmow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oparciu o znajomość procedur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C0F9-0515-4756-813D-EE011781A1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m jest kl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osoba, której potrzeby zaspokajane są przez dostarczone przez urząd produkty/usługi. Koszty dostarczenia produktu/usługi ponosi klient poprzez opłaty. W przypadku świadczeń bezpłatnych ich koszty pokrywane są budżetu (pośrednio przez klientów, którzy jako podatnicy zasilają budżet państw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każdy, z kim wchodzimy w interakcję transakcji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2B35-A0EF-4220-B6FC-2D9EC6B096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gólnie o relacjach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8360" y="1403280"/>
            <a:ext cx="8447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żdy proces wymiany ma charakter transakcji polegającej na wymianie wartości (nie tylko materialny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175E-F0AB-44F8-995D-9878C6B4E4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ces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jest odbiorcą naszego produktu/usługi, który otrzymuje w procesie nazywanym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obsługą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B718-65B0-4A53-95BB-A7E65205A8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z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tosunku do interesantów urzędu mówimy o kliencie zewnętrznym, który je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miotem działalnośc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biorcą produktów/usług świadczonych zgodnie z ustawowymi zadaniam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o jego potrzebach i kierunków koniecznych zmian/innow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opinii kształtujących wizerunek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0600" indent="-21852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43B0-FA79-46A1-AAB0-7BDD1C9089E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w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47920"/>
            <a:ext cx="8763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w urzędzie wymaga współdziałania z innymi pracownikami. W takim przypadku powinniśmy traktować ich również jako klientów, którzy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tnerem w realizacji celów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do analizy potrzeb organiz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E9C5-463D-48D1-9806-16DAD9930F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2-05-04T12:36:54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