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7490-A1E6-46B2-9B4B-A050958EDAA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16EC-3277-4F2C-954C-929295C16D2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C56A-31A6-487B-B608-8923713EA3F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8877-F12F-4CE3-955F-C8EF8B18A9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P. W Anglii przy powitaniu nie jest dobrze widziane wpadanie sobie w ramiona, w Japonii natomiast – podawanie ręki, w krajach arabskich – patrzenie w oc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084A-AFAA-4509-9A9C-C6A0840620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.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091D-F4E1-49DB-8ACC-1037FD4236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.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DEF0-6F7E-42BA-89BF-27949A50E90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kie działania należy podejmować, aby nasz kontakt z klientem był jak najbardziej satysfakcjonujący i jak najmniej stresujący dla obu s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3D7D-B00D-469B-935C-424C6CCD09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kie działania należy podejmować, aby nasz kontakt z klientem był jak najbardziej satysfakcjonujący i jak najmniej stresujący dla obu s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C863-B76C-4147-996D-11AB74A81D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E3A8-8B31-4D0F-B52F-0D92302E9A8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1015-07C6-4C71-A495-FB4C2DB9C49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8504-E46D-4D35-BB96-B6999F001FD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7BD1-EEC7-4093-B4A5-B4389178A8F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K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y organizacja działała ludzie muszą współpracować. Pracownicy mają względem siebie różne potrzeby i różne zobowiązania, angażują się w proces wymiany usług, są dla siebie zarówno klientami jak i usługodawcami. Wzajemne traktowanie siebie jako klientów inspiruje do uświadomienia ogólnych potrzeb organizacyjnych dla poprawy efektywności dział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9EEA7-0A98-4AB2-9945-D69C67FB42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42E90-C265-435C-8E46-49530B09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580F2-8C84-40DA-824A-7B9E99A4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9E501-4635-495B-B7AD-11342E2F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B189-7A5B-475E-86D2-268C1129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6270-6633-4820-8656-A5A9474C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5F653-D233-4A30-9CA5-63D63521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B317B-9BFE-4313-9914-2D409193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40B6-8435-48F1-A363-A62B140D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7AE9-BF77-4E0A-877F-332BDD93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6DA51-FCE6-4CE6-8DB2-86FA5267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D521-2CAD-4307-B5C7-04883B3EF4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7BBA1-2F6E-45D9-A9BC-E8C240C4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4FF15-5175-41ED-BA75-652C3DA1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C47C7-9FB6-4514-8BBA-D59E8D41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D7D79-B5E7-451C-BB9B-BEF8897F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BF2AA-A8D6-4246-B31A-5E0ED86B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FA387-A646-4530-93EC-E22601FA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08DF5-A9F8-4CBA-9A9E-16AAE1C0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D6990-AED4-41D9-B083-724C43BD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8C38A-C24A-47B9-918D-3089D3CE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F7CBA-799E-4CEC-BADB-759C69E6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7599B-5C3B-4D7F-BCA6-5FBBC115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AE2D1-317F-4A93-8040-29816C47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246F2-AEB7-4FBA-B5E5-B6C02206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88DC0-B1D2-4669-B5FE-0B0102F1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DA7A2-6956-4F65-828D-C395C1FA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FABB1-0355-468C-A80B-A14E9B8D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15250-C15A-42E3-9FEC-36886315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62564-B6B5-4C55-BCFD-36CB241C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1E7B9-7FC1-4336-BBD4-C88E67A7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9D3A2-2CD7-42FC-A6AE-524B3F23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AA134-AF6A-4020-832D-D32B16A0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2422D-62A2-4039-90D9-A7B931ED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404FA-3E10-498C-87C5-73EF37CC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DBA80-C2C6-4ED2-BEF2-D41AC6BD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B50AA8-0CDC-485F-95B5-2B3C1C35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603F9B-2E7A-49E1-8D67-9D0FFE4E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600E70-D477-450A-B19C-EAB9D83B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301BAA-55D9-433D-B320-9D007142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4BC129-906C-495A-B560-2B5CAD84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13079E-1E56-4ABD-AD4C-659550F6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35A9FC-5DFF-4420-BF31-87A852ED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D4CA0A-F1CD-4DEF-BD59-73125CC9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BAC903-2B71-41B4-B304-3B842733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97272D-AAE6-49AA-BAFA-5E1B5314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4E5982-8960-4418-B18F-2EED598E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B5C674-17BE-41FC-AB6E-E82A43D4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E5C823-051E-4D95-A5ED-72104751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23B39E-9714-4D18-AD88-E1BBCD6A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873BAA-4609-4F27-9469-28401E1C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A7F5EA-CC36-4B45-BD95-9C8884C0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1A192C-35DF-4774-8402-168596EE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24FDCB-75D1-435C-8D5D-8AFF36DC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CFF319-14ED-41ED-A0CD-C2AA6DBB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CB7B4F-F404-4352-90F2-B3E959C7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5965C7-F836-4681-A4EE-F48C5535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360" y="367308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98E128-352E-4FF3-8594-CDFF0FC1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36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85400" y="3673080"/>
            <a:ext cx="40158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4AFE09-55B6-410A-A97F-27F7C50F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36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5080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33240" y="3673080"/>
            <a:ext cx="264960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794C36-AC8E-4E6D-B2E5-1B8C43D3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5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6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49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rostokąt 10"/>
          <p:cNvSpPr/>
          <p:nvPr/>
        </p:nvSpPr>
        <p:spPr>
          <a:xfrm>
            <a:off x="7380360" y="6237360"/>
            <a:ext cx="1511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94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95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1"/>
          </p:nvPr>
        </p:nvSpPr>
        <p:spPr>
          <a:xfrm>
            <a:off x="446040" y="6230520"/>
            <a:ext cx="1308240" cy="3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2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15A9-29DE-46CD-A826-A30C81F684F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142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5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00A2-75C4-4118-BE49-10390B7A43D6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189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190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8"/>
          </p:nvPr>
        </p:nvSpPr>
        <p:spPr>
          <a:xfrm>
            <a:off x="3919320" y="6490800"/>
            <a:ext cx="130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B3E0-0C11-4E03-8495-E93E0ED8AC39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237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238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285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831B-1928-4F02-95D9-07CC421CA85B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12"/>
          <p:cNvSpPr/>
          <p:nvPr/>
        </p:nvSpPr>
        <p:spPr>
          <a:xfrm flipV="1">
            <a:off x="468360" y="0"/>
            <a:ext cx="0" cy="685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Obraz 9" descr="ibc6"/>
          <p:cNvPicPr/>
          <p:nvPr/>
        </p:nvPicPr>
        <p:blipFill>
          <a:blip r:embed="rId2"/>
          <a:stretch/>
        </p:blipFill>
        <p:spPr>
          <a:xfrm>
            <a:off x="8042400" y="322200"/>
            <a:ext cx="637920" cy="2271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kprm"/>
          <p:cNvPicPr/>
          <p:nvPr/>
        </p:nvPicPr>
        <p:blipFill>
          <a:blip r:embed="rId3"/>
          <a:stretch/>
        </p:blipFill>
        <p:spPr>
          <a:xfrm>
            <a:off x="515880" y="177840"/>
            <a:ext cx="3457800" cy="447480"/>
          </a:xfrm>
          <a:prstGeom prst="rect">
            <a:avLst/>
          </a:prstGeom>
          <a:ln w="0">
            <a:noFill/>
          </a:ln>
        </p:spPr>
      </p:pic>
      <p:grpSp>
        <p:nvGrpSpPr>
          <p:cNvPr id="332" name="Grupa 15"/>
          <p:cNvGrpSpPr/>
          <p:nvPr/>
        </p:nvGrpSpPr>
        <p:grpSpPr>
          <a:xfrm>
            <a:off x="596880" y="5661000"/>
            <a:ext cx="8083440" cy="457200"/>
            <a:chOff x="596880" y="5661000"/>
            <a:chExt cx="8083440" cy="457200"/>
          </a:xfrm>
        </p:grpSpPr>
        <p:pic>
          <p:nvPicPr>
            <p:cNvPr id="333" name="Picture 2" descr=""/>
            <p:cNvPicPr/>
            <p:nvPr/>
          </p:nvPicPr>
          <p:blipFill>
            <a:blip r:embed="rId4"/>
            <a:stretch/>
          </p:blipFill>
          <p:spPr>
            <a:xfrm>
              <a:off x="596880" y="5661000"/>
              <a:ext cx="18108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3" descr=""/>
            <p:cNvPicPr/>
            <p:nvPr/>
          </p:nvPicPr>
          <p:blipFill>
            <a:blip r:embed="rId5"/>
            <a:stretch/>
          </p:blipFill>
          <p:spPr>
            <a:xfrm>
              <a:off x="7333920" y="5661000"/>
              <a:ext cx="13464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Prostokąt 2"/>
          <p:cNvSpPr/>
          <p:nvPr/>
        </p:nvSpPr>
        <p:spPr>
          <a:xfrm>
            <a:off x="685800" y="6107040"/>
            <a:ext cx="81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MS PGothic"/>
              </a:rPr>
              <a:t>Szkolenia są realizowane w ramach projektu „Klient w centrum administracji” współfinansowanego ze środków Unii Europejskiej w ramach Europejskiego Funduszu Społeczn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3EA8-BEE7-409F-A24F-4E76EF99F166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ady profesjonalnej obsługi klienta. Szkolenie dla pracowników Kancelarii Ogólnej Lubuskiego Urzędu Wojewódzkiego w Gorzowie Wielkopolsk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9976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minując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w myśl zasady „ja tutaj rozdaję karty”, gdzie urzędnik ma ostatnie, decydujące sło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legł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w myśl zasady „klient nasz pan i może wszystko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artnersk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obie strony mają swoje prawa i obowiązki, a zasadą jest „klient nasz partne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Aft>
                <a:spcPts val="1199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25000"/>
              </a:lnSpc>
              <a:spcAft>
                <a:spcPts val="1199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1A6C-F665-4FC4-A32B-6F72939DBF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dele relacji urzędnik - k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i sposoby reagow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0B4D-DABB-473E-A3C6-28C5B11D485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928880"/>
            <a:ext cx="82296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b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ardzo dob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BA37-F1BA-4A18-AD1E-39580CEFE36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Typy klientów - filozo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6840" y="1201680"/>
            <a:ext cx="853452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ów ze względu na cechy znajdujące wyraz w ich zachowaniach można podzielić na określone typ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rogi, agresywny, wojowniczy i ofensy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iecznie niezadowolony, mar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egatywista, scept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ądr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zdecydowany, niepewny, wahający si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uper zgodny, przyjaciel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wg zachow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62A9-E9FF-40CD-AD4C-BA4EAFB436A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rogi, agresywny, wojowniczy i ofensy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ujawnia się atakują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jest gwałtow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obraża i zastras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ombarduje bezlitosną krytyk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hołduje zasadzie, że poniżanie innych świadczy o jego własnej s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A674-BC5B-4055-81B7-A935FD3FF3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49976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iecznie niezadowolony, mar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ciąż narzeka na wszystko wokó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pecjalizuje się w znajdywaniu wad we wszystk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robiazgo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przekonany o własnym perfekcjonizmie, szuka dziury w pracy in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369A-520F-41A2-B3EA-63896E0432A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44792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egatywista, scept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podważa i krytyku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uwielbia niweczyć i deprecjonować wszystko co zostało powiedzi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jest zgorzkniały, sceptyczny i sarkast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uf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2BC2-DC1E-4FD4-B661-21A8CC12B2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447920"/>
            <a:ext cx="853452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ądr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ardzo pewny swoich racji, lubi być w centrum uwa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bywa despotyczny lub przekonywują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traktuje swoich rozmówców jak dzieci, próby dyskusji wydają się być bezcel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minuje podczas rozmów, traktując siebie jak eksperta w danej dziedzi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CE5B-FE28-4F73-B079-85569CB4F5C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714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zdecydowany, niepewny, wahający si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a problemy z wyrażaniem własnych myśli, pragnień i opin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łabo daje sobie radę ze stresem, ociąga się, spóź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ma kłopoty z podejmowaniem decyzji, odkłada je na późni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ądzi, że jego zdanie się nie lic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B596-8008-4A38-B417-957EE2A6D1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571760"/>
            <a:ext cx="822960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uper zgodny, przyjaciel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sprawia wrażenie rozsądnego, wiern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lubi być w centrum uwagi, chce być przyjacielem każd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nie zawsze dotrzymuje słowa, potrafi zawieść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dowcipny, konflikty z innymi łagodzi poczuciem humor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B20D-07CF-4875-867E-1813A3E008F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wartość prezent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stota relacji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y klientów i sposoby reagow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Komunikacja w obsłudze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4572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y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F695-0ED3-4020-AF6D-B92DE58730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533520" y="1071720"/>
          <a:ext cx="8458200" cy="4728960"/>
        </p:xfrm>
        <a:graphic>
          <a:graphicData uri="http://schemas.openxmlformats.org/drawingml/2006/table">
            <a:tbl>
              <a:tblPr/>
              <a:tblGrid>
                <a:gridCol w="2027160"/>
                <a:gridCol w="6431040"/>
              </a:tblGrid>
              <a:tr h="55404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 klienta ukierunkowany n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ważniejsze zalec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4756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ybkie załatwienie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nuj najszybszą ścieżkę postępowania. Podkreślaj znaczenie działań klienta, które przyspieszą załatwienie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bór możliwoś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dstaw wszystkie możliwe sposoby załatwienia s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jaśnij konsekwencje przyjęcia danego sposobu postępowania (np. czas trwania, tryb rozpatrywania, możliwość odwołania się itp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jalne proble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słuchaj obaw kli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prezentuj powiązanie proponowanych czynności z punktu widzenia bezpieczeństwa załatwienia sprawy kli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ługuj się przykładami innych klientów (bez ujawniania danych personalnyc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wołuj odpowiednie przepisy i procedu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kazuj klientowi miejsca, w których może znaleźć opisy sposobów załatwiania tego typu spra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b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aj o doświadczenia klienta w danej spraw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korzystuj (parafrazuj wypowiedzi klien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wal, jeśli to, co robił w podobnej sprawie poprzednio, było właści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F6FC-FB2C-4E68-A554-D0BC5E7859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7840" y="456840"/>
            <a:ext cx="80722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ca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Komunikacja w obsłudze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8C78-50DC-4804-860E-133C2BAD8F2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to i kiedy jest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mająca potrzeb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spełniająca wymagane kryteria określone praw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-450720">
              <a:lnSpc>
                <a:spcPct val="125000"/>
              </a:lnSpc>
              <a:spcBef>
                <a:spcPts val="700"/>
              </a:spcBef>
              <a:buClr>
                <a:srgbClr val="d09e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możliwości sytuacyj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4999-3512-4494-9FDA-8227793BCC0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można wykazać klientowi, że się o niego troszczymy, że jest dla nas waż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przez kulturę obsługi, która jest ważnym elementem kultury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975D-4D34-4097-A043-3D53D17696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1084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leży być dla klien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trzeb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spierając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ympatyczny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do zastąpi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0072-D1F3-4467-9335-41538A3C603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chowanie kultural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zachowanie uwzględniające model świata drugiej oso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strzeganie zasad własnej kultury nie gwarantuje nam przychylnej oceny ze strony in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174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by uzyskać pozytywną ocenę, należy znać zasady kulturowe osób oceniając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B477-B41D-4B5C-BA0B-59129952153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ejście do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8360" y="1447560"/>
            <a:ext cx="84470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wykazuje znajomość faktów, możliwości i gdy to możliwe histori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jest nastawiony na załatwienie sprawy i satysfakcję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rzędnik używa odpowiednich, dopasowanych do klienta sformułowa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09CF-AD92-4572-9DDA-68FA638553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oba obsługująca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066320"/>
            <a:ext cx="8447040" cy="35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mie słucha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bi pozytywne wrażenie, jest komunikatywna, profesjonalna w kontaktach interpersonal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st pogodna i pozytywnie nastawi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st wytrzymała psychicznie, asertyw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arakteryzuje się wysoką kulturą osobist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2A3D-1A0C-41E0-AFAD-E88858EF56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Świadome i celowe wywieranie wpływu oraz obrona przed manipulacją jako podstawowa kompetencja  w relacjach z klien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2362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szyscy wywieramy wpływ i jesteśmy pod wpływem innych, choć tylko niektórzy i tylko czasami są tego świado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F250-D6BC-445D-B2BC-35235D8B680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345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ozmawiać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331640"/>
            <a:ext cx="85345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KREŚLIĆ (i pamiętać), że jest się reprezentantem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ZIĘKOWAĆ za informacje, które np. pomogą usprawnić nasze dział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EKLAROWAĆ, że po zajmiemy się tą sprawą zgodnie z potrzebą klienta przy zachowaniu wymagań wynikających procedur określonych praw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7633-D08B-4BE9-98D9-1441EB3E9D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stota relacji z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0344-E565-4D24-B611-AE2461C7885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3459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ozmawiać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255320"/>
            <a:ext cx="86868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WOŁYWAĆ SIĘ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33760" indent="-441720">
              <a:lnSpc>
                <a:spcPct val="100000"/>
              </a:lnSpc>
              <a:spcAft>
                <a:spcPts val="601"/>
              </a:spcAft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zakładanej wiedzy klien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33760" indent="-441720">
              <a:lnSpc>
                <a:spcPct val="100000"/>
              </a:lnSpc>
              <a:spcAft>
                <a:spcPts val="601"/>
              </a:spcAft>
              <a:buClr>
                <a:srgbClr val="d09e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dokumenta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WIEDZIEĆ to samo w inny sposób, jeśli klient nie rozum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OTOWAĆ niezbędne informacje podawane przez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ÓWIĆ tonem grzecznym, nieprzepraszającym, w którym przebrzmiewa chęć znalezienia rozwiązania zaistniałej sytuacji oraz w którym słychać uśmi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7D6E-9710-4030-B095-477D68D79CA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ego nie warto robić w rozmowie z klient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360" y="13273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wychodzić poza swoje kompeten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wychodzić od negatyw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rzepraszać bez poznania fak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ouczać w kwestach innych niż procedura przeprowadzenia spra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reagować na zaczep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dać się wciągnąć w emo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spoufalać si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76F1-BC39-4918-B7E7-96E202D36D9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kuteczne formy język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123720" y="205704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potrze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korzyś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ęzyk perswaz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EAAA-549E-415C-8C81-37DEEBEC36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5950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ynności i umiejętności należące do dobrej obsłu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5559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daje świadectwo dla pracy usługodawcy. Aby sobie zapewnić jego dobrą ocenę, wskazane jest prezentować odpowiednią postawę i wynikające z niej działania w oparciu o konieczne umiejętn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651C-75B6-42DF-9EE8-C74AEBE5EEC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y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9118-D2C3-4E16-8C3F-55E816CDE71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edy klient pozyskuje ocenę trudn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6840" y="1295280"/>
            <a:ext cx="8381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edy wyraża potrzeby, których nie możemy zaspokoić, poniewa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ch nie rozumie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mamy odpowiednich zasob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mamy odpowiednich kompeten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niezgodne z naszym systemem wartości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wynikającymi z niego standarda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6415-7086-4D72-B908-C4189FEE25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w relacji z klientem zależne są o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pu klienta i typu urzędnika (niekompatybilność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fesjonalizmu urzęd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ytuacji w której zjawił się k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dzajem załatwianej spra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wydolności procesu komunikacji pomiędzy urzędnikiem a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przeczności interesów pomiędzy urzędnikiem a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9F9C-94AD-4BFF-B5BF-DC5B6D8DDE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mogą pojawić się w każdym z trzech obszarów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533160" y="17524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czuć i emo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telekt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kona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0DA8-D0CA-46E9-A80F-B90A433F5B5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rudności mogą wynikać 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ktualnego szczególnego obszaru skupienia uwa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ersonalnych metamodeli postępowania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budzonych, społecznie akceptowalnych, norm postępowania u klien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636E-F26F-401E-A48A-186E4974A8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pomaga w rozpoznaniu powodów, dla których odbieramy klienta jako trudn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09120" y="1752480"/>
            <a:ext cx="678204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żna obserwac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ważne słucha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elowe zadawanie pyta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3691-BAF5-42BA-B991-8A3AEA8C8DB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stalanie, kto jest klie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143000"/>
            <a:ext cx="891540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080" indent="-109080">
              <a:lnSpc>
                <a:spcPct val="90000"/>
              </a:lnSpc>
              <a:spcBef>
                <a:spcPts val="49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ient to ten, kto ma potrzeby, które my możemy zaspokoi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ma zasoby, które mogą zaspokoić nasze potrze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ie potrzeby mogą być zaspokojone przez produkty/usługi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o ma takie potrzeb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ie są potrzeby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2440" indent="-86040">
              <a:lnSpc>
                <a:spcPct val="125000"/>
              </a:lnSpc>
              <a:spcBef>
                <a:spcPts val="499"/>
              </a:spcBef>
              <a:buClr>
                <a:srgbClr val="c495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o ma zasoby mogące zaspokoić potrzeby urzęd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080" indent="-109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080" indent="-109080">
              <a:lnSpc>
                <a:spcPct val="90000"/>
              </a:lnSpc>
              <a:spcBef>
                <a:spcPts val="499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Grupa 20"/>
          <p:cNvGrpSpPr/>
          <p:nvPr/>
        </p:nvGrpSpPr>
        <p:grpSpPr>
          <a:xfrm>
            <a:off x="609480" y="3840120"/>
            <a:ext cx="8282160" cy="1555920"/>
            <a:chOff x="609480" y="3840120"/>
            <a:chExt cx="8282160" cy="1555920"/>
          </a:xfrm>
        </p:grpSpPr>
        <p:sp>
          <p:nvSpPr>
            <p:cNvPr id="395" name="Oval 5"/>
            <p:cNvSpPr/>
            <p:nvPr/>
          </p:nvSpPr>
          <p:spPr>
            <a:xfrm>
              <a:off x="6782040" y="412956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6"/>
            <p:cNvSpPr/>
            <p:nvPr/>
          </p:nvSpPr>
          <p:spPr>
            <a:xfrm>
              <a:off x="609480" y="384012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609480" y="443448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8"/>
            <p:cNvSpPr/>
            <p:nvPr/>
          </p:nvSpPr>
          <p:spPr>
            <a:xfrm>
              <a:off x="2793600" y="4308120"/>
              <a:ext cx="582120" cy="582840"/>
            </a:xfrm>
            <a:prstGeom prst="plus">
              <a:avLst>
                <a:gd name="adj" fmla="val 4047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9"/>
            <p:cNvSpPr/>
            <p:nvPr/>
          </p:nvSpPr>
          <p:spPr>
            <a:xfrm>
              <a:off x="5705640" y="4232520"/>
              <a:ext cx="946440" cy="694080"/>
            </a:xfrm>
            <a:custGeom>
              <a:avLst/>
              <a:gdLst>
                <a:gd name="textAreaLeft" fmla="*/ 148680 w 946440"/>
                <a:gd name="textAreaRight" fmla="*/ 828360 w 946440"/>
                <a:gd name="textAreaTop" fmla="*/ 173520 h 694080"/>
                <a:gd name="textAreaBottom" fmla="*/ 520560 h 69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5640" bIns="356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0"/>
            <p:cNvSpPr/>
            <p:nvPr/>
          </p:nvSpPr>
          <p:spPr>
            <a:xfrm>
              <a:off x="7088760" y="4253400"/>
              <a:ext cx="1601640" cy="6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3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Klient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1"/>
            <p:cNvSpPr/>
            <p:nvPr/>
          </p:nvSpPr>
          <p:spPr>
            <a:xfrm>
              <a:off x="856800" y="3962880"/>
              <a:ext cx="20383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asze zaso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682200" y="4756680"/>
              <a:ext cx="196704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ch potrze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3"/>
            <p:cNvSpPr/>
            <p:nvPr/>
          </p:nvSpPr>
          <p:spPr>
            <a:xfrm>
              <a:off x="3521520" y="3840120"/>
              <a:ext cx="210960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"/>
            <p:cNvSpPr/>
            <p:nvPr/>
          </p:nvSpPr>
          <p:spPr>
            <a:xfrm>
              <a:off x="3521520" y="4496040"/>
              <a:ext cx="2111040" cy="90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5"/>
            <p:cNvSpPr/>
            <p:nvPr/>
          </p:nvSpPr>
          <p:spPr>
            <a:xfrm>
              <a:off x="3740040" y="3996000"/>
              <a:ext cx="174708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ch zaso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6"/>
            <p:cNvSpPr/>
            <p:nvPr/>
          </p:nvSpPr>
          <p:spPr>
            <a:xfrm>
              <a:off x="3521520" y="4800960"/>
              <a:ext cx="21841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pl-PL" sz="23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asze  potrzeb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F39E-A785-40F7-AFA6-B3017EDAF7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adzić sobie z narastającymi negatywnymi emocjam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76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dzielić siebie od pełnionej funkcji – uświadomić sobie i w pełni przyjąć, ż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2638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ient mnie nie zna (jako człowieka), więc choćb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tego powodu jego negatywne opinie nie mogą być skierowane do m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26388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znaczącej większości przypadków nie jestem przyczyną jego emo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4F4C-652A-45E1-86B8-BD49C6980A7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stawa empatyczna i zasadnie asertywna w radzeniu sobie z trudnym klientem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7524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 czym polega postawa empatyczna i zasadna asertywnoś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sertywne wyznaczanie granic i odmow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oparciu o znajomość procedur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9D72-DD7E-46CE-9800-F29F664E0A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m jest kli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8360" y="1403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to osoba, której potrzeby zaspokajane są przez dostarczone przez urząd produkty/usługi. Koszty dostarczenia produktu/usługi ponosi klient poprzez opłaty. W przypadku świadczeń bezpłatnych ich koszty pokrywane są budżetu (pośrednio przez klientów, którzy jako podatnicy zasilają budżet państw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to każdy, z kim wchodzimy w interakcję transakcji wymi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25000"/>
              </a:lnSpc>
              <a:spcBef>
                <a:spcPts val="601"/>
              </a:spcBef>
              <a:buClr>
                <a:srgbClr val="c495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8DA6-5794-46F1-A9D9-5F87FD852F2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gólnie o relacjach wymi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8360" y="1403280"/>
            <a:ext cx="84470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żdy proces wymiany ma charakter transakcji polegającej na wymianie wartości (nie tylko materialny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2E90-7B44-41B0-A6BF-5D728484B93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ces obsługi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jest odbiorcą naszego produktu/usługi, który otrzymuje w procesie nazywanym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obsługą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4BC1-3C38-4FE5-835E-3855545CB64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zewnętr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stosunku do interesantów urzędu mówimy o kliencie zewnętrznym, który jes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miotem działalności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biorcą produktów/usług świadczonych zgodnie z ustawowymi zadaniami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informacji o jego potrzebach i kierunków koniecznych zmian/innow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opinii kształtujących wizerunek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0600" indent="-21852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D5EB-60EC-4464-817F-0A46543F12C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ient wewnętr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447920"/>
            <a:ext cx="8763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ca w urzędzie wymaga współdziałania z innymi pracownikami. W takim przypadku powinniśmy traktować ich również jako klientów, którzy s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artnerem w realizacji celów urzę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c49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informacji do analizy potrzeb organizacyj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ymbol zastępczy numeru slajdu 3"/>
          <p:cNvSpPr/>
          <p:nvPr/>
        </p:nvSpPr>
        <p:spPr>
          <a:xfrm>
            <a:off x="3919680" y="6491160"/>
            <a:ext cx="130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EA45-D533-4AEB-BFE2-69C45BF860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Dell</cp:lastModifiedBy>
  <dcterms:modified xsi:type="dcterms:W3CDTF">2012-05-04T12:36:54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