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C7D46-5830-4885-8195-A3755737D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FA310-C493-400C-9FA6-D540A2F64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73539-ADDE-4B6F-AA12-E8E31EEB4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04BE9-D33F-4F24-9160-59F584A40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E0489-912F-46A5-B55C-12BA5F4B4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4EA67-7707-4FE4-A7BD-1121487AF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FA59A-796A-4E83-ADB1-14332B382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CB373-3639-47D7-A133-C370575BA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A642C-863D-4019-ADE0-FA8942A4E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257A6-11B7-4E55-92A1-0F101C68F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6CB9B-0E36-4386-85E5-2EFFBBA6F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009D6-61D3-4EE6-B704-F82BB10DF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138F5-433A-4E9C-8BEA-374674875F6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WUF 11 – poglądowa mapa „Blue Zone”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Blue zone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Blue zone” – oznaczona kolorem niebieski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4" descr="C:\Users\wojciech_porczyk\Desktop\PRZETARGI\LOGISTYKA\SOPZ - konspekt\ZALACZNIKI\Do SOPZ\mapy\Mapa Strefa Blue Zone WUF 11_punkt kontrolny.png"/>
          <p:cNvPicPr/>
          <p:nvPr/>
        </p:nvPicPr>
        <p:blipFill>
          <a:blip r:embed="rId1"/>
          <a:stretch/>
        </p:blipFill>
        <p:spPr>
          <a:xfrm>
            <a:off x="1042920" y="1089000"/>
            <a:ext cx="746604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3-19T14:37:43Z</dcterms:created>
  <dc:creator>Pniak Janusz</dc:creator>
  <dc:description/>
  <dc:language>en-US</dc:language>
  <cp:lastModifiedBy>Wojciech Porczyk</cp:lastModifiedBy>
  <dcterms:modified xsi:type="dcterms:W3CDTF">2021-07-13T14:39:44Z</dcterms:modified>
  <cp:revision>17</cp:revision>
  <dc:subject/>
  <dc:title>Internet Governance Forum 20202</dc:title>
</cp:coreProperties>
</file>