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43F-A735-4860-9A04-DC6849948A1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62C8-C1B9-4F67-AB98-80BBEDB60A2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4440" y="9726480"/>
            <a:ext cx="307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E6F4DF-FF27-4D32-82AE-9420AD0673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2"/>
          <p:cNvSpPr/>
          <p:nvPr/>
        </p:nvSpPr>
        <p:spPr>
          <a:xfrm>
            <a:off x="6781680" y="6375240"/>
            <a:ext cx="2362320" cy="50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0"/>
          <p:cNvSpPr/>
          <p:nvPr/>
        </p:nvSpPr>
        <p:spPr>
          <a:xfrm>
            <a:off x="6540480" y="6408720"/>
            <a:ext cx="2387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12D16358-39E1-40EE-9D0A-20778A444E5F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0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9" descr="Logo"/>
          <p:cNvPicPr/>
          <p:nvPr/>
        </p:nvPicPr>
        <p:blipFill>
          <a:blip r:embed="rId3"/>
          <a:stretch/>
        </p:blipFill>
        <p:spPr>
          <a:xfrm>
            <a:off x="179280" y="6319800"/>
            <a:ext cx="684360" cy="422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971640" y="6424560"/>
            <a:ext cx="36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ab27"/>
                </a:solidFill>
                <a:latin typeface="Arial Unicode MS"/>
                <a:ea typeface="MS PGothic"/>
              </a:rPr>
              <a:t>learning and development - consultancy -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6527880" y="6408720"/>
            <a:ext cx="24001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69252C8B-8CDF-4049-8064-65E402287F72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0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4273560"/>
            <a:ext cx="87998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b1a"/>
                </a:solidFill>
                <a:latin typeface="Arial"/>
              </a:rPr>
              <a:t>Case study</a:t>
            </a: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meal vouchers in Belgiu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5760" y="5361120"/>
            <a:ext cx="874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f. Dr Wim Marneffe – Hasselt University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dr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drivers? (2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aper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ck of control on the spending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imited validity (6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entry costs for potential issuers (contracts and inves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try barrier for potential issuers: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storical driver of the system: high social security contributions and taxes o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542880" y="158436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3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16400" y="113652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416400" y="17082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416400" y="22716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416400" y="282888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groups? (4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(Q = 75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(Q = 2.0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 (Q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Q = 9.000,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affected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67883"/>
          <a:stretch/>
        </p:blipFill>
        <p:spPr>
          <a:xfrm>
            <a:off x="0" y="1473120"/>
            <a:ext cx="914400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is each group impa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rect consumers (employ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rvice and deliv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d consumers (employe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ss, theft and expiration of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su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fees paid by employers and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lost, stolen and expired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ood and food service merch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art-up and 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imulation of turnover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ucher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boptimal level of competition, which ups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ederal Treasury of Belg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raud sensitiv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4280" y="1373040"/>
            <a:ext cx="85248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stakeholders and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0" b="18890"/>
          <a:stretch/>
        </p:blipFill>
        <p:spPr>
          <a:xfrm>
            <a:off x="0" y="146376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will the problems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will the problems evolve? (6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e problems are likely to stay the same or even deterio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centage of lost/stolen/expired meal vouc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1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: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ransaction costs haven’t changed ove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 survey by the issuers into the satisfaction of the meal voucher system showed that there is an increasing number of complaints about 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542880" y="1584360"/>
            <a:ext cx="70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Get to a concise formulation of the centr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Costs for meal voucher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 market for vouchers is functioning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re are restriction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, which corresponds to a value of 1,600,000,000 euros. As meal vouchers are non-refundable, this impacts the purchasing power of consumers as well as the turnover for food and food service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in Belgium, again restricting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evelop a proble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(8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0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2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3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64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66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67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7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8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9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80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81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83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84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a social benefit granted to employees by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crease in purchas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ductible amount from corporate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imulate turnover and employment for food and food service (catering)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190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192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193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194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195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196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197" name="Straight Arrow Connector 31"/>
          <p:cNvCxnSpPr/>
          <p:nvPr/>
        </p:nvCxnSpPr>
        <p:spPr>
          <a:xfrm>
            <a:off x="4404960" y="2576160"/>
            <a:ext cx="5850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8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9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0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1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2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3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4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05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10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11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13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4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6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7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18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20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21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226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227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228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229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230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2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3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4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5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6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7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8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39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48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49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2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3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4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5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56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58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Group 46" descr=""/>
          <p:cNvPicPr/>
          <p:nvPr/>
        </p:nvPicPr>
        <p:blipFill>
          <a:blip r:embed="rId2"/>
          <a:stretch/>
        </p:blipFill>
        <p:spPr>
          <a:xfrm>
            <a:off x="3602160" y="1444680"/>
            <a:ext cx="1598400" cy="847800"/>
          </a:xfrm>
          <a:prstGeom prst="rect">
            <a:avLst/>
          </a:prstGeom>
          <a:ln w="0">
            <a:noFill/>
          </a:ln>
        </p:spPr>
      </p:pic>
      <p:pic>
        <p:nvPicPr>
          <p:cNvPr id="264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265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7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0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1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2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3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4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5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6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inhoud 4"/>
          <p:cNvSpPr/>
          <p:nvPr/>
        </p:nvSpPr>
        <p:spPr>
          <a:xfrm>
            <a:off x="628560" y="1415880"/>
            <a:ext cx="807408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possible policy objectives of a future government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neral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c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general objectives should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ssible polic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542880" y="1584360"/>
            <a:ext cx="754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For each general objective, what specific objectives can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62640" y="3892680"/>
            <a:ext cx="56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stem was introduced in Belgium in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urpose is to compensate employees that have to provide lunch meals themselve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alternative for company restau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ther policy goal is to stimulate citizens to buy 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nsumer restr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the percentage of lost/stolen/expired meal vouchers by 50%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tend the expiration date of the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ight against the 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rove competition on the mar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uble the number of players (issuers) on the market of meal vouchers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gotiate an agreement with neighbouring countries so that meal vouchers can be spe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liance costs for employers have to decrease by 25% by the end of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nsaction costs for merchants have to be reduced to a maximum of 0.5% of sales with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rchants who become an official acceptance point, can deduct 50% of their start-up of their corporat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at least three possible policy options to address th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Afbeeldingsresultaat voor elektronische maaltijdcheque"/>
          <p:cNvPicPr/>
          <p:nvPr/>
        </p:nvPicPr>
        <p:blipFill>
          <a:blip r:embed="rId1"/>
          <a:stretch/>
        </p:blipFill>
        <p:spPr>
          <a:xfrm>
            <a:off x="628560" y="2884320"/>
            <a:ext cx="2955960" cy="187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Afbeeldingsresultaat voor elektronische maaltijdcheque sodexo"/>
          <p:cNvPicPr/>
          <p:nvPr/>
        </p:nvPicPr>
        <p:blipFill>
          <a:blip r:embed="rId2"/>
          <a:stretch/>
        </p:blipFill>
        <p:spPr>
          <a:xfrm>
            <a:off x="4287960" y="3819600"/>
            <a:ext cx="417024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bolish the meal voucher system, but allow for extra net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2: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8560" y="1415880"/>
            <a:ext cx="807408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could be the impacts of the selected policy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benefits and costs of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ntification and/or monetisa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litative descrip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could be general impacts of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elfa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imilar to checks or cash bank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fbeeldingsresultaat voor maaltijdcheque lunch pass"/>
          <p:cNvPicPr/>
          <p:nvPr/>
        </p:nvPicPr>
        <p:blipFill>
          <a:blip r:embed="rId1"/>
          <a:stretch/>
        </p:blipFill>
        <p:spPr>
          <a:xfrm>
            <a:off x="716040" y="2622600"/>
            <a:ext cx="3794040" cy="19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erelateerde afbeelding"/>
          <p:cNvPicPr/>
          <p:nvPr/>
        </p:nvPicPr>
        <p:blipFill>
          <a:blip r:embed="rId2"/>
          <a:stretch/>
        </p:blipFill>
        <p:spPr>
          <a:xfrm rot="120000">
            <a:off x="4629240" y="3819600"/>
            <a:ext cx="3951360" cy="24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fbeeldingsresultaat voor edenred logo"/>
          <p:cNvPicPr/>
          <p:nvPr/>
        </p:nvPicPr>
        <p:blipFill>
          <a:blip r:embed="rId3"/>
          <a:stretch/>
        </p:blipFill>
        <p:spPr>
          <a:xfrm>
            <a:off x="7189920" y="3179880"/>
            <a:ext cx="1230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fbeeldingsresultaat voor sodexo logo"/>
          <p:cNvPicPr/>
          <p:nvPr/>
        </p:nvPicPr>
        <p:blipFill>
          <a:blip r:embed="rId4"/>
          <a:stretch/>
        </p:blipFill>
        <p:spPr>
          <a:xfrm>
            <a:off x="638280" y="4530600"/>
            <a:ext cx="143964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wer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 will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nvestment costs for issuers and possibly also for merchants (no electronic payment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duced risk of loss or theft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non-taxable/deductible soci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o need for compliance (hass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isappearance of start-up, service, delivery,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jobs at issuing companies, and food and food service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6"/>
          <p:cNvSpPr/>
          <p:nvPr/>
        </p:nvSpPr>
        <p:spPr>
          <a:xfrm>
            <a:off x="542880" y="1584360"/>
            <a:ext cx="77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2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of which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benefits and costs are related to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ocial contact with employees, extra net reward for employees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delivery costs, security costs, compliance costs, risk of theft/frau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arge network of acceptance points, easy to transfer to family/friend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imited validity, risk of theft/loss, limited ways of spending (food, in Belgium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279080"/>
            <a:ext cx="82915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wer compliance costs, no delivery costs, no risk of burglary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less social contac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ess expired vouchers, reduced risk of loss/theft, lower compliance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ess acceptance points, harder to transfer to family/friends, less social contact with employ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more compliance, no more service and delivery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extra reward for employees, loss of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compliance costs, no lost/stolen/unused vouche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non-taxable benefit, loss of purchasing pow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542880" y="1584360"/>
            <a:ext cx="82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oes Option 2 address the drivers of the general problem satis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29600" y="3817800"/>
            <a:ext cx="73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General problem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Improper functioning of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1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2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Limi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3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High usag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342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346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348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31"/>
          <p:cNvCxnSpPr/>
          <p:nvPr/>
        </p:nvCxnSpPr>
        <p:spPr>
          <a:xfrm>
            <a:off x="3852720" y="2576160"/>
            <a:ext cx="11376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0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1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2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4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5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6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57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316400" y="2200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6199200" y="23828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0"/>
          <p:cNvSpPr/>
          <p:nvPr/>
        </p:nvSpPr>
        <p:spPr>
          <a:xfrm>
            <a:off x="8068320" y="12319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lem analysis an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63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364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66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367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368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369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0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1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2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3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4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5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6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82" name="TextBox 42"/>
          <p:cNvSpPr/>
          <p:nvPr/>
        </p:nvSpPr>
        <p:spPr>
          <a:xfrm>
            <a:off x="2867040" y="2039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2"/>
          <p:cNvSpPr/>
          <p:nvPr/>
        </p:nvSpPr>
        <p:spPr>
          <a:xfrm>
            <a:off x="5765760" y="2093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3"/>
          <p:cNvSpPr/>
          <p:nvPr/>
        </p:nvSpPr>
        <p:spPr>
          <a:xfrm>
            <a:off x="7673760" y="19400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87" name="Group 46" descr=""/>
          <p:cNvPicPr/>
          <p:nvPr/>
        </p:nvPicPr>
        <p:blipFill>
          <a:blip r:embed="rId2"/>
          <a:stretch/>
        </p:blipFill>
        <p:spPr>
          <a:xfrm>
            <a:off x="3645000" y="144468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88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389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390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1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2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4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5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6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7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8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9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400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401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5"/>
          <p:cNvSpPr/>
          <p:nvPr/>
        </p:nvSpPr>
        <p:spPr>
          <a:xfrm>
            <a:off x="3408120" y="2146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6899040" y="192708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direct impacts can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ntification/monetisation of impacts (4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ich direct impacts can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rvi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of lost/stolen/expired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impacts can not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litative description of impacts (5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ich relevant impacts can not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employment at issuing companies, and food and food service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domestic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increased competition, and its effects 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VAT revenues for the federal 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the ease of use of electronic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Fill in and calculate the impacts that were considered to be quantifiable by making use of the table in the exercise bu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information and measure the compliance costs for food and food service merchants by making use of the Standard Cost Model (S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3: Measuring complian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8560" y="3532320"/>
            <a:ext cx="80740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the baseline scenario (paper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2 (electronic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3 (abolition of meal vouchers, net salary inst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easuring compliance costs with th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brief of the IA on meal voucher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sessed by the Belgian federal government (Agency for Administrative Simplification)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me spent on IA: 2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cquiring data + use of standard time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lculations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terviews and meetings (stakeholder consul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tral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Problem analysis an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415520"/>
            <a:ext cx="80740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2000"/>
          </a:bodyPr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dri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is each group impa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will the problems ev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ise formulation of the centr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problems? (1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service, transaction and 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official circuit for spending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nly 2 players on the market: weak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on food i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1:06:03Z</dcterms:created>
  <dc:creator>Theo Jans</dc:creator>
  <dc:description>PresentationLoad.com</dc:description>
  <dc:language>en-US</dc:language>
  <cp:lastModifiedBy>Theo Jans</cp:lastModifiedBy>
  <cp:lastPrinted>2019-02-20T10:31:01Z</cp:lastPrinted>
  <dcterms:modified xsi:type="dcterms:W3CDTF">2019-02-20T10:31:58Z</dcterms:modified>
  <cp:revision>2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