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6803-8D53-4088-BD02-EDF613907A6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18F3-DA34-45EF-814A-08B0FBA0D01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F74B263-3E1F-45B8-A7D6-A4CECA2235F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DC5BCC10-E336-4408-8F91-048067943DA1}"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669C9277-ED29-49BA-80FB-799A63D527A2}" type="datetime">
              <a:rPr b="1" lang="en-US" sz="1000" spc="-1" strike="noStrike">
                <a:solidFill>
                  <a:srgbClr val="58ab27"/>
                </a:solidFill>
                <a:latin typeface="Arial Unicode MS"/>
              </a:rPr>
              <a:t>07/31/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