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1466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73512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0"/>
            <a:ext cx="4435560" cy="73512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450440" y="1099800"/>
            <a:ext cx="7332840" cy="54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6965640"/>
            <a:ext cx="8186760" cy="659772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b">
            <a:noAutofit/>
          </a:bodyPr>
          <a:lstStyle>
            <a:lvl1pPr indent="0" algn="r">
              <a:buNone/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</a:pPr>
            <a:fld id="{8699078E-DEE3-4908-934F-DD939168B7ED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579744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4640" rIns="134640" tIns="67320" bIns="67320" anchor="b">
            <a:noAutofit/>
          </a:bodyPr>
          <a:p>
            <a:pPr algn="r"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</a:pPr>
            <a:fld id="{E1FA1FFE-1459-4DC1-877F-586D2D9B1BF0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450800" y="1100160"/>
            <a:ext cx="7332840" cy="549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023480" y="6965640"/>
            <a:ext cx="8186760" cy="65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579744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4640" rIns="134640" tIns="67320" bIns="67320" anchor="b">
            <a:noAutofit/>
          </a:bodyPr>
          <a:p>
            <a:pPr algn="r"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</a:pPr>
            <a:fld id="{A7417272-D1E9-4B5C-B4D5-2888D23E0164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454040" y="1100160"/>
            <a:ext cx="7329600" cy="54975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23480" y="6962760"/>
            <a:ext cx="8186760" cy="66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188-8A67-4298-85DA-7BDB9F09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B44-C9F3-4ADF-8612-8C198374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AC4-A3C8-46AA-82B2-795198EF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04B-8610-4965-9C53-23B59407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14CA-C80A-41BB-9ACA-26712E7F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65B5-8667-473A-833C-F2A95395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8D74-2A6F-416A-91D1-08ABEC93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17AE-DB92-4110-A0A4-EE2EE1EF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640C-AE78-4FD6-BD3E-E548EFDB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8481-51E1-4F70-AC9A-4FEB50CA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782-4131-490C-9E82-2661A4BC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5AA-C15F-41E7-8F2E-67B3B63A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20E9-8DDB-45D9-A32E-B1B1C6E15F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0" y="333360"/>
            <a:ext cx="9144000" cy="6524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5"/>
          <p:cNvSpPr/>
          <p:nvPr/>
        </p:nvSpPr>
        <p:spPr>
          <a:xfrm>
            <a:off x="4187880" y="620640"/>
            <a:ext cx="4416480" cy="62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Which regulatory obligations can be removed? Reasons for removing could be for exampl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is not used or seldom used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 risks are prevented or controlled. Examples are removing of permit systems, prohibitions and announcement obligation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veral regulations serve the same purpose. Permits could be integrated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6"/>
          <p:cNvSpPr/>
          <p:nvPr/>
        </p:nvSpPr>
        <p:spPr>
          <a:xfrm>
            <a:off x="4187880" y="500688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eduction of time consumed by governmental bod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instance by (a) one of the previous steps and (b) streamlining of work process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7"/>
          <p:cNvSpPr/>
          <p:nvPr/>
        </p:nvSpPr>
        <p:spPr>
          <a:xfrm>
            <a:off x="4187880" y="5518080"/>
            <a:ext cx="4416480" cy="10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mprovement of service level of governmental bodies to citizens and businesses, aimed at aspects like accessibility and customer satisfa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Examples ar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king regulations quickly and easily accessible via internet, search engines, decision trees or offic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iving the proper informa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elping businesses with required actions for obligations instead of only accepting/rejecting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ing unambiguously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eside these aspects governmental bodies could give businesses extra information concerning other relevant regulations. For instance by giving descriptions of these regulations or contact informa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8"/>
          <p:cNvSpPr/>
          <p:nvPr/>
        </p:nvSpPr>
        <p:spPr>
          <a:xfrm>
            <a:off x="1981080" y="3286080"/>
            <a:ext cx="719280" cy="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9"/>
          <p:cNvSpPr/>
          <p:nvPr/>
        </p:nvSpPr>
        <p:spPr>
          <a:xfrm>
            <a:off x="2340000" y="371808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0"/>
          <p:cNvSpPr/>
          <p:nvPr/>
        </p:nvSpPr>
        <p:spPr>
          <a:xfrm>
            <a:off x="2340000" y="414972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1"/>
          <p:cNvSpPr/>
          <p:nvPr/>
        </p:nvSpPr>
        <p:spPr>
          <a:xfrm>
            <a:off x="2340000" y="465300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2"/>
          <p:cNvSpPr/>
          <p:nvPr/>
        </p:nvSpPr>
        <p:spPr>
          <a:xfrm flipV="1">
            <a:off x="2340000" y="3285720"/>
            <a:ext cx="0" cy="18716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3"/>
          <p:cNvSpPr/>
          <p:nvPr/>
        </p:nvSpPr>
        <p:spPr>
          <a:xfrm>
            <a:off x="1260360" y="839880"/>
            <a:ext cx="273708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4"/>
          <p:cNvSpPr/>
          <p:nvPr/>
        </p:nvSpPr>
        <p:spPr>
          <a:xfrm>
            <a:off x="1260360" y="1652760"/>
            <a:ext cx="273708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5"/>
          <p:cNvSpPr/>
          <p:nvPr/>
        </p:nvSpPr>
        <p:spPr>
          <a:xfrm>
            <a:off x="1332000" y="2455920"/>
            <a:ext cx="266544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6"/>
          <p:cNvSpPr/>
          <p:nvPr/>
        </p:nvSpPr>
        <p:spPr>
          <a:xfrm>
            <a:off x="3780000" y="328608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7"/>
          <p:cNvSpPr/>
          <p:nvPr/>
        </p:nvSpPr>
        <p:spPr>
          <a:xfrm>
            <a:off x="3780000" y="371808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8"/>
          <p:cNvSpPr/>
          <p:nvPr/>
        </p:nvSpPr>
        <p:spPr>
          <a:xfrm>
            <a:off x="3780000" y="414972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9"/>
          <p:cNvSpPr/>
          <p:nvPr/>
        </p:nvSpPr>
        <p:spPr>
          <a:xfrm>
            <a:off x="3780000" y="465300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0"/>
          <p:cNvSpPr/>
          <p:nvPr/>
        </p:nvSpPr>
        <p:spPr>
          <a:xfrm>
            <a:off x="2130120" y="61272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1"/>
          <p:cNvSpPr/>
          <p:nvPr/>
        </p:nvSpPr>
        <p:spPr>
          <a:xfrm>
            <a:off x="2130120" y="142560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2"/>
          <p:cNvSpPr/>
          <p:nvPr/>
        </p:nvSpPr>
        <p:spPr>
          <a:xfrm>
            <a:off x="2130120" y="222876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3"/>
          <p:cNvSpPr/>
          <p:nvPr/>
        </p:nvSpPr>
        <p:spPr>
          <a:xfrm>
            <a:off x="2130120" y="305928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4"/>
          <p:cNvSpPr/>
          <p:nvPr/>
        </p:nvSpPr>
        <p:spPr>
          <a:xfrm>
            <a:off x="4211640" y="1449360"/>
            <a:ext cx="4392720" cy="62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or certain information obligations in regulation other instruments can be used to achieve the same  policy goal. Examples ar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 announce system instead of permit system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 prohibition instead of permit system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 dispensation instead of permit system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5"/>
          <p:cNvSpPr/>
          <p:nvPr/>
        </p:nvSpPr>
        <p:spPr>
          <a:xfrm>
            <a:off x="4213080" y="2241720"/>
            <a:ext cx="4391280" cy="62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n order to acquire permits certain procedures (activities) have to be followed. By removin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on-functional parts of these procedures simplifications can be realiz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Examples ar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rtain supply of required information becomes unnecessary when governmental bodies use the information that is already available at other governmental bodi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rtain explanations become unnecessary when governmental bodies do more research themselv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6"/>
          <p:cNvSpPr/>
          <p:nvPr/>
        </p:nvSpPr>
        <p:spPr>
          <a:xfrm>
            <a:off x="4213080" y="3141720"/>
            <a:ext cx="439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ncreasing selection-limits for determining which citizens or businesses belong to the target grou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instance narrowing the definition of the selection criteri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7"/>
          <p:cNvSpPr/>
          <p:nvPr/>
        </p:nvSpPr>
        <p:spPr>
          <a:xfrm>
            <a:off x="4187880" y="357660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owering the number of times citizens or businesses need to fulfill oblig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instance only require a report when things change instead of periodically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8"/>
          <p:cNvSpPr/>
          <p:nvPr/>
        </p:nvSpPr>
        <p:spPr>
          <a:xfrm>
            <a:off x="4187880" y="400680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owering of time consumed by simplifying activit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example the use of (a) ICT, (b) only asking for relevant information (c) streamlining of work process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9"/>
          <p:cNvSpPr/>
          <p:nvPr/>
        </p:nvSpPr>
        <p:spPr>
          <a:xfrm>
            <a:off x="4187880" y="451008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or instance (1) reduction of legal charges (2) lowering of costs by simplifying certain activit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, like less extra copies of appeal forms or evidenc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0"/>
          <p:cNvSpPr/>
          <p:nvPr/>
        </p:nvSpPr>
        <p:spPr>
          <a:xfrm>
            <a:off x="2340000" y="515772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1"/>
          <p:cNvSpPr/>
          <p:nvPr/>
        </p:nvSpPr>
        <p:spPr>
          <a:xfrm>
            <a:off x="3780000" y="515772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2"/>
          <p:cNvSpPr/>
          <p:nvPr/>
        </p:nvSpPr>
        <p:spPr>
          <a:xfrm>
            <a:off x="1405080" y="5816520"/>
            <a:ext cx="259236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3"/>
          <p:cNvSpPr/>
          <p:nvPr/>
        </p:nvSpPr>
        <p:spPr>
          <a:xfrm>
            <a:off x="2125440" y="558972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4"/>
          <p:cNvSpPr/>
          <p:nvPr/>
        </p:nvSpPr>
        <p:spPr>
          <a:xfrm>
            <a:off x="2484360" y="400536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171720" indent="-17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c. Reduction of time involved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5"/>
          <p:cNvSpPr/>
          <p:nvPr/>
        </p:nvSpPr>
        <p:spPr>
          <a:xfrm>
            <a:off x="2484360" y="450864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d. Reduction of costs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6"/>
          <p:cNvSpPr/>
          <p:nvPr/>
        </p:nvSpPr>
        <p:spPr>
          <a:xfrm>
            <a:off x="2484360" y="314172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a. Reduction of target group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7"/>
          <p:cNvSpPr/>
          <p:nvPr/>
        </p:nvSpPr>
        <p:spPr>
          <a:xfrm>
            <a:off x="2484360" y="3573360"/>
            <a:ext cx="13701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marL="166320" indent="-166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b. Reduction of                                   frequency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8"/>
          <p:cNvSpPr/>
          <p:nvPr/>
        </p:nvSpPr>
        <p:spPr>
          <a:xfrm>
            <a:off x="2484360" y="501336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171720" indent="-17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e. Reduction of appeal-tim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9"/>
          <p:cNvSpPr/>
          <p:nvPr/>
        </p:nvSpPr>
        <p:spPr>
          <a:xfrm>
            <a:off x="684360" y="2239920"/>
            <a:ext cx="1436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 Can certain administrative 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activit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remov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0"/>
          <p:cNvSpPr/>
          <p:nvPr/>
        </p:nvSpPr>
        <p:spPr>
          <a:xfrm>
            <a:off x="684360" y="622440"/>
            <a:ext cx="1436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 Can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information obligations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remov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from regulation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1"/>
          <p:cNvSpPr/>
          <p:nvPr/>
        </p:nvSpPr>
        <p:spPr>
          <a:xfrm>
            <a:off x="1401840" y="105408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02"/>
          <p:cNvSpPr/>
          <p:nvPr/>
        </p:nvSpPr>
        <p:spPr>
          <a:xfrm>
            <a:off x="684360" y="6310440"/>
            <a:ext cx="1436400" cy="431640"/>
          </a:xfrm>
          <a:prstGeom prst="roundRect">
            <a:avLst>
              <a:gd name="adj" fmla="val 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aximum reduction of Administrative burden achie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3"/>
          <p:cNvSpPr/>
          <p:nvPr/>
        </p:nvSpPr>
        <p:spPr>
          <a:xfrm>
            <a:off x="684360" y="3033720"/>
            <a:ext cx="1436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. Can certain administrative activities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simplifi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4"/>
          <p:cNvSpPr/>
          <p:nvPr/>
        </p:nvSpPr>
        <p:spPr>
          <a:xfrm>
            <a:off x="1401840" y="3465360"/>
            <a:ext cx="0" cy="2052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5"/>
          <p:cNvSpPr/>
          <p:nvPr/>
        </p:nvSpPr>
        <p:spPr>
          <a:xfrm>
            <a:off x="1041480" y="1096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6"/>
          <p:cNvSpPr/>
          <p:nvPr/>
        </p:nvSpPr>
        <p:spPr>
          <a:xfrm>
            <a:off x="1041480" y="1917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7"/>
          <p:cNvSpPr/>
          <p:nvPr/>
        </p:nvSpPr>
        <p:spPr>
          <a:xfrm>
            <a:off x="1041480" y="2722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8"/>
          <p:cNvSpPr/>
          <p:nvPr/>
        </p:nvSpPr>
        <p:spPr>
          <a:xfrm>
            <a:off x="1041480" y="3510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9"/>
          <p:cNvSpPr/>
          <p:nvPr/>
        </p:nvSpPr>
        <p:spPr>
          <a:xfrm>
            <a:off x="1041480" y="5994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2"/>
          <p:cNvSpPr/>
          <p:nvPr/>
        </p:nvSpPr>
        <p:spPr>
          <a:xfrm>
            <a:off x="684360" y="1438200"/>
            <a:ext cx="1436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. Can regulatory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information oblig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simplifi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3"/>
          <p:cNvSpPr/>
          <p:nvPr/>
        </p:nvSpPr>
        <p:spPr>
          <a:xfrm>
            <a:off x="1403280" y="188280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4"/>
          <p:cNvSpPr/>
          <p:nvPr/>
        </p:nvSpPr>
        <p:spPr>
          <a:xfrm>
            <a:off x="1401840" y="267480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5"/>
          <p:cNvSpPr/>
          <p:nvPr/>
        </p:nvSpPr>
        <p:spPr>
          <a:xfrm>
            <a:off x="684360" y="5518080"/>
            <a:ext cx="1436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. Is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improvemen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service level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possibl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6"/>
          <p:cNvSpPr/>
          <p:nvPr/>
        </p:nvSpPr>
        <p:spPr>
          <a:xfrm>
            <a:off x="1403280" y="595152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2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0"/>
          <p:cNvSpPr/>
          <p:nvPr/>
        </p:nvSpPr>
        <p:spPr>
          <a:xfrm>
            <a:off x="0" y="333360"/>
            <a:ext cx="9144000" cy="179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eps to reduce Administrative Burden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xamples of reducing Administrative Burd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9"/>
          <p:cNvSpPr/>
          <p:nvPr/>
        </p:nvSpPr>
        <p:spPr>
          <a:xfrm>
            <a:off x="-16560" y="28440"/>
            <a:ext cx="48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ecision Tree: Less Administrative burden – Better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Afbeelding 2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195640" y="1376280"/>
            <a:ext cx="5045040" cy="332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SIRA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Soestdijkseweg Zuid 2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3721 AK Biltho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elpdes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Tel: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+31  (0)30 602 4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Fax: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+31  (0)30 602 4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Patrick van der P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E-mail: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3399"/>
                </a:solidFill>
                <a:latin typeface="Arial"/>
                <a:ea typeface="Arial"/>
              </a:rPr>
              <a:t>P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atrick.vanderpoll@siraconsulting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Or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3399"/>
                </a:solidFill>
                <a:latin typeface="Arial"/>
                <a:ea typeface="Arial"/>
              </a:rPr>
              <a:t>Joland. van.der.heijden@siraconsulting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2:25:50Z</dcterms:created>
  <dc:creator>peter.bex</dc:creator>
  <dc:description/>
  <dc:language>en-US</dc:language>
  <cp:lastModifiedBy>Patrick van der Poll</cp:lastModifiedBy>
  <cp:lastPrinted>2010-11-26T13:51:40Z</cp:lastPrinted>
  <dcterms:modified xsi:type="dcterms:W3CDTF">2019-02-14T14:35:34Z</dcterms:modified>
  <cp:revision>82</cp:revision>
  <dc:subject/>
  <dc:title>Slide 1</dc:title>
</cp:coreProperties>
</file>