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7432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14"/>
          </p:nvPr>
        </p:nvSpPr>
        <p:spPr>
          <a:xfrm>
            <a:off x="0" y="941076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15"/>
          </p:nvPr>
        </p:nvSpPr>
        <p:spPr>
          <a:xfrm>
            <a:off x="385416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EF7F-D299-4B08-964C-3C32A51248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2756-4CA5-4BF9-A904-1AFFBDFB93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0DA6-3FF0-4ABA-B7EF-087199C2C2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D6EB-C4CA-47F5-BD3A-0BFB22C3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51B4-A210-4041-A706-B4E5BDDE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7594-1761-413E-BC99-AD6F5EC8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74B4-8446-40D2-B275-C8655E48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03A9-E21C-47D8-B494-4CCE0CD6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0316-7BC0-4B6A-BCD2-8640A82F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63F8-AF5E-4BA7-B6C8-5D2B2279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1AA4-2DDE-4666-95E0-29D04DB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07F8-C213-4781-8826-2609C652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B7DD-4026-4D3B-BBC1-3880DCC8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0A57-5487-43CB-B8CF-F3EF8592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6E48-B07C-46F9-9131-58A56B9A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DA8C5-657D-4B76-9855-BD3EDE0B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9A13-733A-49F8-A23D-22DC3E7E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456EE-8882-4B3C-B117-5AAACF8E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6AB20-BBB5-4C62-89F5-EB2DE7FA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3BE1-7EB9-4EC9-9C57-DD686A32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6711-6280-4C74-9CE4-5BB9BF1F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46F1-3298-49F2-A124-6B77DB4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1121-CA1A-4BC7-B2B9-49ED579F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9C80-E5CF-44CE-B088-A72F501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3E35-B3BE-4724-B580-CB04D581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5FDC-57C9-411F-9158-A7BB1B5B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6D6B-921C-4BFA-84DD-6F277C1E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A537C-4B5F-4B8A-9565-BBFA3045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01746-BD57-4F9B-93E5-E614277A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0D0E9-72BA-4F1F-9534-A2CA959B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3BEB-591C-4E4F-A479-AAC9B76B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722BD-60FD-4CE0-B5F6-C78C65E2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87E1D-2E68-4ADB-BEBD-23B983FB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02DB7-EB06-4F13-BBDC-10BB748D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0A82D-237B-4ABC-BEBE-470BA5F8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A4D5-D9A4-4002-87C9-3FB3FD4F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D5A82-EB25-47E4-8E68-8123DE8E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A0455-EFE0-443E-8AE9-4D5EBB69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A2D0-29E9-4C0A-9E14-CCA8C8C3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04120"/>
            <a:ext cx="6157800" cy="361800"/>
          </a:xfrm>
          <a:prstGeom prst="rect">
            <a:avLst/>
          </a:prstGeom>
          <a:solidFill>
            <a:srgbClr val="84c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457200" y="6504120"/>
            <a:ext cx="8686800" cy="361800"/>
          </a:xfrm>
          <a:prstGeom prst="rect">
            <a:avLst/>
          </a:prstGeom>
          <a:solidFill>
            <a:srgbClr val="c7e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Obraz 3" descr=""/>
          <p:cNvPicPr/>
          <p:nvPr/>
        </p:nvPicPr>
        <p:blipFill>
          <a:blip r:embed="rId2"/>
          <a:stretch/>
        </p:blipFill>
        <p:spPr>
          <a:xfrm>
            <a:off x="6033960" y="6103800"/>
            <a:ext cx="2820960" cy="925560"/>
          </a:xfrm>
          <a:prstGeom prst="rect">
            <a:avLst/>
          </a:prstGeom>
          <a:ln w="0">
            <a:noFill/>
          </a:ln>
        </p:spPr>
      </p:pic>
      <p:pic>
        <p:nvPicPr>
          <p:cNvPr id="5" name="Obraz 9" descr=""/>
          <p:cNvPicPr/>
          <p:nvPr/>
        </p:nvPicPr>
        <p:blipFill>
          <a:blip r:embed="rId3"/>
          <a:stretch/>
        </p:blipFill>
        <p:spPr>
          <a:xfrm>
            <a:off x="324000" y="33480"/>
            <a:ext cx="1800000" cy="793440"/>
          </a:xfrm>
          <a:prstGeom prst="rect">
            <a:avLst/>
          </a:prstGeom>
          <a:ln w="0">
            <a:noFill/>
          </a:ln>
        </p:spPr>
      </p:pic>
      <p:pic>
        <p:nvPicPr>
          <p:cNvPr id="6" name="Obraz 10" descr=""/>
          <p:cNvPicPr/>
          <p:nvPr/>
        </p:nvPicPr>
        <p:blipFill>
          <a:blip r:embed="rId4"/>
          <a:stretch/>
        </p:blipFill>
        <p:spPr>
          <a:xfrm>
            <a:off x="6910560" y="189000"/>
            <a:ext cx="1944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4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8"/>
          <p:cNvSpPr/>
          <p:nvPr/>
        </p:nvSpPr>
        <p:spPr>
          <a:xfrm>
            <a:off x="0" y="500040"/>
            <a:ext cx="928800" cy="1071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71FC-8CD9-4AEA-8D72-CB63B85BCD4C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D74E-1A0E-4EFF-A1AE-DD0D4FF12169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224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6C20-81A4-43DE-B373-E3F44FCB213B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rostokąt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H:\Grupy\DL\FOTOLIA\Fotolia_65208503_M.jpg"/>
          <p:cNvPicPr/>
          <p:nvPr/>
        </p:nvPicPr>
        <p:blipFill>
          <a:blip r:embed="rId1"/>
          <a:srcRect l="0" t="0" r="3757" b="0"/>
          <a:stretch/>
        </p:blipFill>
        <p:spPr>
          <a:xfrm>
            <a:off x="0" y="-2700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Prostokąt 30"/>
          <p:cNvSpPr/>
          <p:nvPr/>
        </p:nvSpPr>
        <p:spPr>
          <a:xfrm>
            <a:off x="0" y="239544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31"/>
          <p:cNvSpPr/>
          <p:nvPr/>
        </p:nvSpPr>
        <p:spPr>
          <a:xfrm>
            <a:off x="704880" y="2554200"/>
            <a:ext cx="83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y Fundusz Ochrony Środowiska i Gospodarki Wod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ole tekstowe 32"/>
          <p:cNvSpPr/>
          <p:nvPr/>
        </p:nvSpPr>
        <p:spPr>
          <a:xfrm>
            <a:off x="704880" y="28814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ęść 1) Sokół – wdrożenie innowacyjnych technologii środowis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raz 11" descr=""/>
          <p:cNvPicPr/>
          <p:nvPr/>
        </p:nvPicPr>
        <p:blipFill>
          <a:blip r:embed="rId2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79" name="pole tekstowe 9"/>
          <p:cNvSpPr/>
          <p:nvPr/>
        </p:nvSpPr>
        <p:spPr>
          <a:xfrm>
            <a:off x="870120" y="5291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chał Szczepa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partament Innowacji i Ekspert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rostokąt 13"/>
          <p:cNvSpPr/>
          <p:nvPr/>
        </p:nvSpPr>
        <p:spPr>
          <a:xfrm>
            <a:off x="-9360" y="383688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3"/>
          <p:cNvSpPr/>
          <p:nvPr/>
        </p:nvSpPr>
        <p:spPr>
          <a:xfrm>
            <a:off x="3013200" y="4079880"/>
            <a:ext cx="6121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ryteria oceny projektów dla fazy B+R i fazy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strukcja wypełniania w GWoD dla fazy B+R i fazy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B+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B+R posiada tylko kryteria jakościowe dopuszczają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a pozycja jest oceniana na zasadzie spełnia – nie spełnia. Nie ma punkt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Negatywna ocena któregokolwiek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nfosigw.gov.pl/gfx/nfosigw/userfiles/files/srodki_krajowe/programy_2018/sokol/pp_wsaprcie_dla_innowacji_-zmiana_06.11.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W posiada tylko kryteria jakościowe punktowe w zakresie oceny </a:t>
            </a:r>
            <a:br>
              <a:rPr sz="1800"/>
            </a:b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ekologiczno - techni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niosek musi otrzymać całościowo oraz w grupach (I, II, III) co najmniej 60% możliwych do zdobycia punk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e kryterium posiada minimum punktowe oprócz II.1 oraz II.3, dla których negatywna ocena nie powoduje odrzucenia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http://nfosigw.gov.pl/gfx/nfosigw/userfiles/files/srodki_krajowe/programy_2018/sokol/pp_wsaprcie_dla_innowacji_-zmiana_06.11.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Krajowe Inteligente Specjalizacje (KIS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rajowe Inteligentne Specjalizacje – szczegółowy opis wszystkich KIS znajduje się pod poniższym linki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http://nfosigw.gov.pl/gfx/nfosigw/userfiles/files/srodki_krajowe/programy2015-2020/sokol/2018_iii_nabor/opis_krajowe_inteligentne_specjalizacje__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IS, które obowiązują w danym naborze, są wskazane w Programie Priorytetowy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strukcja wypełniania GW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4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Generator wniosków o dofinansowanie jest narzędziem umożliwiającym przygotowanie i przekazanie do Narodowego Funduszu Ochrony Środowiska i Gospodarki Wodnej wniosków o dofinansowanie projektów ze środków krajowych oraz realizowanych w ramach POIiŚ 2014-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rzystanie z Generatora polega na rejestrowaniu danych poprzez sieć Internet w bazie NFOŚiG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celu zautomatyzowania pracy – system posiada formularze wniosków gotowe do wypełnien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ttp://gwd.nfosigw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aza B+R – 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ole tekstowe 1"/>
          <p:cNvSpPr/>
          <p:nvPr/>
        </p:nvSpPr>
        <p:spPr>
          <a:xfrm>
            <a:off x="250920" y="17654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lan prac badawczo-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technologiczny innowacyjnej technologii będącej przedmiotem prac badawczo rozwoj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ublikacje nauko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pinie jednostek naukowo badawcz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ykaz niezbędnego sprzętu wraz z wyce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organizacyjny jednostki badawczo rozwoj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Inne dokumenty: zgłoszenie patentowe, licencje, umowy z jednostkami badawczymi, listy intencyjne potwierdzające zapotrzebowanie na wyniki prac badawczo rozwojowych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ole tekstowe 1"/>
          <p:cNvSpPr/>
          <p:nvPr/>
        </p:nvSpPr>
        <p:spPr>
          <a:xfrm>
            <a:off x="250920" y="17654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technologiczny innowacyjnej technologii będącej przedmiotem wdraża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tudium wykonalności (opracowane wg wymagań zawartych w Instrukcji sporządzania Studium Wykonalności dla przedsięwzięcia ubiegającego się o dofinansowanie ze środków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FOŚiGW dostępnej w generatorze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Uzyskane główne dokumenty administracyjne przedstawiające proces uzgodnieniowy przeprowadzenia inwestycji: np. decyzje środowiskowe, pozwolenie na budow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armonogram realizacji prac budowlanych (jeśli dotycz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armonogram uzyskiwania zgód administracyjnych (jeśli dotycz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Udokumentowanie prawa do dysponowania nieruchomości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yceny, otrzymane oferty, kosztorys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datkowe dokumenty: zgłoszenia patentowe, licencje, umowy z dostawcami, listy intencyjne potwierdzające zapotrzebowanie na produkt itp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aza W – 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ymbol zastępczy zawartości 2"/>
          <p:cNvSpPr/>
          <p:nvPr/>
        </p:nvSpPr>
        <p:spPr>
          <a:xfrm>
            <a:off x="415800" y="34275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ymbol zastępczy zawartości 2"/>
          <p:cNvSpPr/>
          <p:nvPr/>
        </p:nvSpPr>
        <p:spPr>
          <a:xfrm>
            <a:off x="0" y="5516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ichał Szczepa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chal.szczepaniak@nfosigw.gov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7:11Z</dcterms:created>
  <dc:creator>MPietras</dc:creator>
  <dc:description/>
  <dc:language>en-US</dc:language>
  <cp:lastModifiedBy>Szczepaniak Michał</cp:lastModifiedBy>
  <cp:lastPrinted>2016-08-08T05:02:58Z</cp:lastPrinted>
  <dcterms:modified xsi:type="dcterms:W3CDTF">2018-12-15T08:56:29Z</dcterms:modified>
  <cp:revision>409</cp:revision>
  <dc:subject/>
  <dc:title>Slajd 1</dc:title>
</cp:coreProperties>
</file>